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600" spc="-1" strike="noStrike">
                <a:solidFill>
                  <a:srgbClr val="6963a8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D2C3D-086A-4ED1-BF18-1909AF100DBC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74496-1928-4AEC-89DB-E79A487732DA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6FAB8-993E-45EE-B87C-4CBCA4740C27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BD16A-B18A-4A16-B69D-6AC3067C6A1E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528D5-6910-40EF-8C25-4D5BB418C783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C8B04-2895-4877-9677-9E8398EB5926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82565-C589-474A-9528-BDC3A529CF58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5A56B-562E-4C49-81FE-295CD714321A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59D32-9C17-4A23-BCEB-A3BC4D64E5C5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7B143-AF04-4658-B6CA-AC16FFB5CA7E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CA845-A4B4-446A-AE5D-56C7B547FC76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0D150-382C-4DED-BF92-05A137F4CE30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F41-CB20-433F-ABB0-E7B5A463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049040"/>
            <a:ext cx="795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45208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7120" y="4135320"/>
            <a:ext cx="845208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435-7352-4585-AC85-385E4021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049040"/>
            <a:ext cx="795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12452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857240"/>
            <a:ext cx="412452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7120" y="4135320"/>
            <a:ext cx="412452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5320"/>
            <a:ext cx="412452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B93-C479-4F93-91F4-AAFB5CAD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049040"/>
            <a:ext cx="795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272124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800" y="1857240"/>
            <a:ext cx="272124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2480" y="1857240"/>
            <a:ext cx="272124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7120" y="4135320"/>
            <a:ext cx="272124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800" y="4135320"/>
            <a:ext cx="272124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2480" y="4135320"/>
            <a:ext cx="272124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9A3-6C3A-409C-B932-E392DB7D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049040"/>
            <a:ext cx="795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7120" y="1857240"/>
            <a:ext cx="845208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451-9909-4C33-A013-6C29A5D7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049040"/>
            <a:ext cx="795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452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BFB-699C-46F4-8317-A893556A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049040"/>
            <a:ext cx="795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1245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857240"/>
            <a:ext cx="41245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88F-7A79-48AE-92F2-2F34D6F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049040"/>
            <a:ext cx="795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617-1D4B-4B59-9F04-5D99C890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1049400"/>
            <a:ext cx="795024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B15-EBB6-44CE-8659-B9E8032E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049040"/>
            <a:ext cx="795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12452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857240"/>
            <a:ext cx="41245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7120" y="4135320"/>
            <a:ext cx="412452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A0D-D45B-4709-9664-62F8438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1049040"/>
            <a:ext cx="795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1245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857240"/>
            <a:ext cx="412452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5320"/>
            <a:ext cx="412452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55F-9F89-4A40-9870-9C2FB93C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1049040"/>
            <a:ext cx="795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12452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857240"/>
            <a:ext cx="412452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7120" y="4135320"/>
            <a:ext cx="845208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6E6-E0E6-4406-9B24-863BC012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db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0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6963a8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7120" y="1857240"/>
            <a:ext cx="8452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552720"/>
            <a:ext cx="1898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89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279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6963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17D3F-F106-446F-9033-4BDD8260AE0B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6269040" y="6660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6963a8"/>
                </a:solidFill>
                <a:latin typeface="Arial"/>
              </a:rPr>
              <a:t>your lo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6963a8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mi3.eu/about-nmi3/networking/data-analysis-standard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s://github.com/ricleal/reductionServer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github.com/ricleal/AllToMantid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487600" y="260280"/>
            <a:ext cx="6656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80"/>
                </a:solidFill>
                <a:latin typeface="Arial"/>
              </a:rPr>
              <a:t>Data Analysis Standards (WP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900000" y="2268360"/>
            <a:ext cx="799308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6963a8"/>
                </a:solidFill>
                <a:latin typeface="Arial"/>
              </a:rPr>
              <a:t>Workpackage current st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6963a8"/>
                </a:solidFill>
                <a:latin typeface="Arial"/>
              </a:rPr>
              <a:t>Task 3 items 'Develop prototype software in chosen solution for representative applications'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6600">
              <a:lnSpc>
                <a:spcPct val="100000"/>
              </a:lnSpc>
              <a:spcBef>
                <a:spcPts val="499"/>
              </a:spcBef>
              <a:buClr>
                <a:srgbClr val="3dbacf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963a8"/>
                </a:solidFill>
                <a:latin typeface="Arial"/>
              </a:rPr>
              <a:t>Contributions to Mantid: instruments, Mc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6963a8"/>
                </a:solidFill>
                <a:latin typeface="Arial"/>
              </a:rPr>
              <a:t>Task 2 'Review existing solutions for a common data analysis infrastructure'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6600">
              <a:lnSpc>
                <a:spcPct val="100000"/>
              </a:lnSpc>
              <a:spcBef>
                <a:spcPts val="499"/>
              </a:spcBef>
              <a:buClr>
                <a:srgbClr val="3dbacf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963a8"/>
                </a:solidFill>
                <a:latin typeface="Arial"/>
              </a:rPr>
              <a:t>Live data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6600">
              <a:lnSpc>
                <a:spcPct val="100000"/>
              </a:lnSpc>
              <a:spcBef>
                <a:spcPts val="499"/>
              </a:spcBef>
              <a:buClr>
                <a:srgbClr val="3dbacf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963a8"/>
                </a:solidFill>
                <a:latin typeface="Arial"/>
              </a:rPr>
              <a:t>Live DVD and package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9640" y="1052640"/>
            <a:ext cx="80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963a8"/>
                </a:solidFill>
                <a:latin typeface="Times New Roman"/>
              </a:rPr>
              <a:t>ILL (lead), STFC/ISIS, TUM and JCNS (FRM2), PSI, HZB, CEA LLB, HZG/Hamburg, ESS Lund/Copenha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963a8"/>
                </a:solidFill>
                <a:latin typeface="Times New Roman"/>
              </a:rPr>
              <a:t>&lt;</a:t>
            </a:r>
            <a:r>
              <a:rPr b="0" lang="fr-FR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nmi3.eu/about-nmi3/networking/data-analysis-standards.html</a:t>
            </a:r>
            <a:r>
              <a:rPr b="0" lang="fr-FR" sz="1800" spc="-1" strike="noStrike">
                <a:solidFill>
                  <a:srgbClr val="6963a8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P6 - NMI3-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F9D8C-CB5B-4DE7-9158-90B609EB05A2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16000" y="1268280"/>
            <a:ext cx="8496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963a8"/>
                </a:solidFill>
                <a:latin typeface="Times New Roman"/>
              </a:rPr>
              <a:t>Mantid/NMI3 – attempt to rationalise </a:t>
            </a:r>
            <a:r>
              <a:rPr b="1" lang="en-GB" sz="2400" spc="-1" strike="noStrike">
                <a:solidFill>
                  <a:srgbClr val="6963a8"/>
                </a:solidFill>
                <a:latin typeface="Times New Roman"/>
              </a:rPr>
              <a:t>data reduction </a:t>
            </a:r>
            <a:r>
              <a:rPr b="0" lang="en-GB" sz="2400" spc="-1" strike="noStrike">
                <a:solidFill>
                  <a:srgbClr val="6963a8"/>
                </a:solidFill>
                <a:latin typeface="Times New Roman"/>
              </a:rPr>
              <a:t>software (share more &amp; duplicate l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963a8"/>
                </a:solidFill>
                <a:latin typeface="Times New Roman"/>
              </a:rPr>
              <a:t>Data analysis</a:t>
            </a:r>
            <a:r>
              <a:rPr b="0" lang="en-GB" sz="2400" spc="-1" strike="noStrike">
                <a:solidFill>
                  <a:srgbClr val="6963a8"/>
                </a:solidFill>
                <a:latin typeface="Times New Roman"/>
              </a:rPr>
              <a:t> is more diverse – a number of key pieces of software must be identified and supported collectiv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963a8"/>
                </a:solidFill>
                <a:latin typeface="Times New Roman"/>
              </a:rPr>
              <a:t>Data pipeline</a:t>
            </a:r>
            <a:r>
              <a:rPr b="0" lang="en-GB" sz="2400" spc="-1" strike="noStrike">
                <a:solidFill>
                  <a:srgbClr val="6963a8"/>
                </a:solidFill>
                <a:latin typeface="Times New Roman"/>
              </a:rPr>
              <a:t> (acquisition/reduction/analysis) must be created from several ‘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963a8"/>
                </a:solidFill>
                <a:latin typeface="Arial"/>
                <a:ea typeface="Arial"/>
              </a:rPr>
              <a:t>→ </a:t>
            </a:r>
            <a:r>
              <a:rPr b="0" lang="en-GB" sz="2400" spc="-1" strike="noStrike">
                <a:solidFill>
                  <a:srgbClr val="6963a8"/>
                </a:solidFill>
                <a:latin typeface="Times New Roman"/>
              </a:rPr>
              <a:t>NMI3 ‘data analysis’ meeting in 20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963a8"/>
                </a:solidFill>
                <a:latin typeface="Times New Roman"/>
              </a:rPr>
              <a:t>Testing a prototype shared reposito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963a8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22228b"/>
                </a:solidFill>
                <a:latin typeface="Times New Roman"/>
              </a:rPr>
              <a:t>http://packages.neutroncode.org</a:t>
            </a:r>
            <a:r>
              <a:rPr b="0" lang="en-GB" sz="2400" spc="-1" strike="noStrike">
                <a:solidFill>
                  <a:srgbClr val="6963a8"/>
                </a:solidFill>
                <a:latin typeface="Times New Roman"/>
              </a:rPr>
              <a:t>&gt; for e.g. Debian/Linu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963a8"/>
                </a:solidFill>
                <a:latin typeface="Times New Roman"/>
                <a:ea typeface="WenQuanYi Micro Hei"/>
              </a:rPr>
              <a:t>(currently 25 packages, neutron orien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963a8"/>
                </a:solidFill>
                <a:latin typeface="Times New Roman"/>
              </a:rPr>
              <a:t>Could be generalized to Mac and Windows (</a:t>
            </a:r>
            <a:r>
              <a:rPr b="1" lang="en-GB" sz="2400" spc="-1" strike="noStrike">
                <a:solidFill>
                  <a:srgbClr val="6963a8"/>
                </a:solidFill>
                <a:latin typeface="Times New Roman"/>
              </a:rPr>
              <a:t>wpkg</a:t>
            </a:r>
            <a:r>
              <a:rPr b="0" lang="en-GB" sz="2400" spc="-1" strike="noStrike">
                <a:solidFill>
                  <a:srgbClr val="6963a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963a8"/>
                </a:solidFill>
                <a:latin typeface="Times New Roman"/>
              </a:rPr>
              <a:t>Distribute a LiveDVD built with these packages (updated July 20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3022560" y="-27000"/>
            <a:ext cx="5797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2228b"/>
                </a:solidFill>
                <a:latin typeface="Arial"/>
              </a:rPr>
              <a:t>Task 2: data analysis software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P6 - NMI3-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05371-7886-4802-A845-573E8D6445BF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771640" y="333360"/>
            <a:ext cx="6372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2228b"/>
                </a:solidFill>
                <a:latin typeface="Arial"/>
              </a:rPr>
              <a:t>Prototype for a distant computation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184560" y="3168720"/>
            <a:ext cx="5886360" cy="33336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71280" y="1584360"/>
            <a:ext cx="74883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963a8"/>
                </a:solidFill>
                <a:latin typeface="Times New Roman"/>
              </a:rPr>
              <a:t>Computation triggered from e.g. instrument control or web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963a8"/>
                </a:solidFill>
                <a:latin typeface="Times New Roman"/>
              </a:rPr>
              <a:t>Uses a dedicated communication port to exchange requests an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963a8"/>
                </a:solidFill>
                <a:latin typeface="Times New Roman"/>
              </a:rPr>
              <a:t>Allow to plug any computation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963a8"/>
                </a:solidFill>
                <a:latin typeface="Times New Roman"/>
              </a:rPr>
              <a:t>&lt;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s://github.com/ricleal/reductionServer</a:t>
            </a:r>
            <a:r>
              <a:rPr b="0" lang="en-GB" sz="1800" spc="-1" strike="noStrike">
                <a:solidFill>
                  <a:srgbClr val="6963a8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963a8"/>
                </a:solidFill>
                <a:latin typeface="Times New Roman"/>
              </a:rPr>
              <a:t>Implemented with NoMAD@ILL ← → Server ← → Mantid, iFit, LAMP,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2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P6 - NMI3-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CD9BC-8099-4248-A51B-3B5F58EEFEF2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2603520" y="333360"/>
            <a:ext cx="6289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22228b"/>
                </a:solidFill>
                <a:latin typeface="Arial"/>
              </a:rPr>
              <a:t>WP6 - current stat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2"/>
          <p:cNvSpPr/>
          <p:nvPr/>
        </p:nvSpPr>
        <p:spPr>
          <a:xfrm>
            <a:off x="792000" y="2160720"/>
            <a:ext cx="863640" cy="1440"/>
          </a:xfrm>
          <a:prstGeom prst="line">
            <a:avLst/>
          </a:prstGeom>
          <a:ln w="36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3"/>
          <p:cNvSpPr/>
          <p:nvPr/>
        </p:nvSpPr>
        <p:spPr>
          <a:xfrm>
            <a:off x="1655640" y="2160720"/>
            <a:ext cx="863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2519280" y="2160720"/>
            <a:ext cx="863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3384720" y="2160720"/>
            <a:ext cx="86328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248000" y="2160720"/>
            <a:ext cx="863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>
            <a:off x="5111640" y="2160720"/>
            <a:ext cx="863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5975280" y="2160720"/>
            <a:ext cx="863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>
            <a:off x="6840360" y="2160720"/>
            <a:ext cx="863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7704000" y="2160720"/>
            <a:ext cx="863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440000" y="2195640"/>
            <a:ext cx="257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303640" y="2195640"/>
            <a:ext cx="257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168720" y="2195640"/>
            <a:ext cx="257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399096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724360" y="2195640"/>
            <a:ext cx="33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658800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741528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831528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6963a8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0"/>
          <p:cNvSpPr/>
          <p:nvPr/>
        </p:nvSpPr>
        <p:spPr>
          <a:xfrm flipV="1">
            <a:off x="1655640" y="2014560"/>
            <a:ext cx="180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1"/>
          <p:cNvSpPr/>
          <p:nvPr/>
        </p:nvSpPr>
        <p:spPr>
          <a:xfrm flipV="1">
            <a:off x="2519280" y="1943280"/>
            <a:ext cx="180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 flipV="1">
            <a:off x="3384720" y="1655280"/>
            <a:ext cx="1440" cy="50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108000" y="1844640"/>
            <a:ext cx="777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6963a8"/>
                </a:solidFill>
                <a:latin typeface="Times New Roman"/>
              </a:rPr>
              <a:t>July 2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8221680" y="1844640"/>
            <a:ext cx="7952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6963a8"/>
                </a:solidFill>
                <a:latin typeface="Times New Roman"/>
              </a:rPr>
              <a:t>Sept 2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252360" y="2448000"/>
            <a:ext cx="1584360" cy="5032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Neutron Software Analysi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Preliminary mantid analysi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  </a:t>
            </a: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(code + functionalities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1368360" y="3024360"/>
            <a:ext cx="1152720" cy="50292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Mantid Learn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First test IDF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First test algorith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857160" y="3600360"/>
            <a:ext cx="2527560" cy="115272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IDF for IN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Loader for ILL Nex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IDF for IN4,IN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Detector correction algorith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IDF and Loader for PSI Foc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IDF and Loader for LLB MiBem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script preparation and testing for data re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2087640" y="4824360"/>
            <a:ext cx="2087640" cy="115272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D33 ID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Loader for Nexus SANS data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  </a:t>
            </a: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(including detector reposition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Analysis of SANS reduction co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IDF for D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Importing ILL ASCII data into Mant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Reduction/analysis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 flipV="1">
            <a:off x="1655640" y="2193840"/>
            <a:ext cx="1800" cy="255600"/>
          </a:xfrm>
          <a:prstGeom prst="line">
            <a:avLst/>
          </a:prstGeom>
          <a:ln w="360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30"/>
          <p:cNvSpPr/>
          <p:nvPr/>
        </p:nvSpPr>
        <p:spPr>
          <a:xfrm flipV="1">
            <a:off x="2519280" y="2193480"/>
            <a:ext cx="1800" cy="831960"/>
          </a:xfrm>
          <a:prstGeom prst="line">
            <a:avLst/>
          </a:prstGeom>
          <a:ln w="360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31"/>
          <p:cNvSpPr/>
          <p:nvPr/>
        </p:nvSpPr>
        <p:spPr>
          <a:xfrm flipV="1">
            <a:off x="4176720" y="2158560"/>
            <a:ext cx="1440" cy="2667240"/>
          </a:xfrm>
          <a:prstGeom prst="line">
            <a:avLst/>
          </a:prstGeom>
          <a:ln w="360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32"/>
          <p:cNvSpPr/>
          <p:nvPr/>
        </p:nvSpPr>
        <p:spPr>
          <a:xfrm flipV="1">
            <a:off x="3365640" y="2176200"/>
            <a:ext cx="1440" cy="1406520"/>
          </a:xfrm>
          <a:prstGeom prst="line">
            <a:avLst/>
          </a:prstGeom>
          <a:ln w="360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33"/>
          <p:cNvSpPr/>
          <p:nvPr/>
        </p:nvSpPr>
        <p:spPr>
          <a:xfrm flipV="1">
            <a:off x="792000" y="1582200"/>
            <a:ext cx="1800" cy="506520"/>
          </a:xfrm>
          <a:prstGeom prst="line">
            <a:avLst/>
          </a:prstGeom>
          <a:ln w="9360">
            <a:solidFill>
              <a:srgbClr val="99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431640" y="1368360"/>
            <a:ext cx="849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5"/>
          <p:cNvSpPr/>
          <p:nvPr/>
        </p:nvSpPr>
        <p:spPr>
          <a:xfrm>
            <a:off x="5111640" y="2987640"/>
            <a:ext cx="1981440" cy="755640"/>
          </a:xfrm>
          <a:prstGeom prst="rect">
            <a:avLst/>
          </a:prstGeom>
          <a:solidFill>
            <a:srgbClr val="cfe7f5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IDF for D2b (dynami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Algorithm to import D2b (scann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Algorithm to external softw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McStas/NeXus ready for Mant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6963a8"/>
                </a:solidFill>
                <a:latin typeface="Times New Roman"/>
              </a:rPr>
              <a:t>Loaders for D11 and D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36"/>
          <p:cNvSpPr/>
          <p:nvPr/>
        </p:nvSpPr>
        <p:spPr>
          <a:xfrm flipV="1">
            <a:off x="4176720" y="1725480"/>
            <a:ext cx="144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37"/>
          <p:cNvSpPr/>
          <p:nvPr/>
        </p:nvSpPr>
        <p:spPr>
          <a:xfrm flipV="1">
            <a:off x="5111640" y="2157120"/>
            <a:ext cx="1800" cy="831960"/>
          </a:xfrm>
          <a:prstGeom prst="line">
            <a:avLst/>
          </a:prstGeom>
          <a:ln w="360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38"/>
          <p:cNvSpPr/>
          <p:nvPr/>
        </p:nvSpPr>
        <p:spPr>
          <a:xfrm>
            <a:off x="5616720" y="1800360"/>
            <a:ext cx="1440" cy="360360"/>
          </a:xfrm>
          <a:prstGeom prst="line">
            <a:avLst/>
          </a:prstGeom>
          <a:ln w="72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327640" y="1511280"/>
            <a:ext cx="91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6963a8"/>
                </a:solidFill>
                <a:latin typeface="Times New Roman"/>
              </a:rPr>
              <a:t>TOD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40"/>
          <p:cNvSpPr/>
          <p:nvPr/>
        </p:nvSpPr>
        <p:spPr>
          <a:xfrm flipV="1">
            <a:off x="5111640" y="1798560"/>
            <a:ext cx="18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1"/>
          <p:cNvSpPr/>
          <p:nvPr/>
        </p:nvSpPr>
        <p:spPr>
          <a:xfrm flipV="1">
            <a:off x="792000" y="2014560"/>
            <a:ext cx="863640" cy="13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42"/>
          <p:cNvSpPr/>
          <p:nvPr/>
        </p:nvSpPr>
        <p:spPr>
          <a:xfrm flipV="1">
            <a:off x="1655640" y="1942920"/>
            <a:ext cx="863640" cy="74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3"/>
          <p:cNvSpPr/>
          <p:nvPr/>
        </p:nvSpPr>
        <p:spPr>
          <a:xfrm flipV="1">
            <a:off x="2519280" y="1655280"/>
            <a:ext cx="863640" cy="290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>
            <a:off x="3384720" y="1655640"/>
            <a:ext cx="792000" cy="71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4176720" y="1728720"/>
            <a:ext cx="936720" cy="71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6"/>
          <p:cNvSpPr/>
          <p:nvPr/>
        </p:nvSpPr>
        <p:spPr>
          <a:xfrm>
            <a:off x="3168720" y="1728720"/>
            <a:ext cx="1440" cy="360360"/>
          </a:xfrm>
          <a:prstGeom prst="line">
            <a:avLst/>
          </a:prstGeom>
          <a:ln w="72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7"/>
          <p:cNvSpPr/>
          <p:nvPr/>
        </p:nvSpPr>
        <p:spPr>
          <a:xfrm>
            <a:off x="2879640" y="1341360"/>
            <a:ext cx="99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6963a8"/>
                </a:solidFill>
                <a:latin typeface="Times New Roman"/>
              </a:rPr>
              <a:t>Task 1 re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48"/>
          <p:cNvSpPr/>
          <p:nvPr/>
        </p:nvSpPr>
        <p:spPr>
          <a:xfrm>
            <a:off x="720720" y="1187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Oval 49"/>
          <p:cNvSpPr/>
          <p:nvPr/>
        </p:nvSpPr>
        <p:spPr>
          <a:xfrm>
            <a:off x="2459160" y="1187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50"/>
          <p:cNvSpPr/>
          <p:nvPr/>
        </p:nvSpPr>
        <p:spPr>
          <a:xfrm>
            <a:off x="3990960" y="1187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51"/>
          <p:cNvSpPr/>
          <p:nvPr/>
        </p:nvSpPr>
        <p:spPr>
          <a:xfrm>
            <a:off x="4356000" y="1116000"/>
            <a:ext cx="1263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6963a8"/>
                </a:solidFill>
                <a:latin typeface="Times New Roman"/>
              </a:rPr>
              <a:t>← </a:t>
            </a:r>
            <a:r>
              <a:rPr b="1" lang="fr-FR" sz="1600" spc="-1" strike="noStrike">
                <a:solidFill>
                  <a:srgbClr val="6963a8"/>
                </a:solidFill>
                <a:latin typeface="Times New Roman"/>
              </a:rPr>
              <a:t>WP6 meetin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2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P6 - NMI3-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B881A-2422-4C24-9C5F-CE4A8789D958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14400" y="1050840"/>
            <a:ext cx="7956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6963a8"/>
                </a:solidFill>
                <a:latin typeface="Arial"/>
              </a:rPr>
              <a:t>Mantid: PSI Focus (To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585120" y="1197000"/>
            <a:ext cx="2286000" cy="1361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75480" y="2825640"/>
            <a:ext cx="2286000" cy="165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6963a8"/>
                </a:solidFill>
                <a:latin typeface="Times New Roman"/>
              </a:rPr>
              <a:t>ConvertUnits (energ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6963a8"/>
                </a:solidFill>
                <a:latin typeface="Times New Roman"/>
              </a:rPr>
              <a:t>S(</a:t>
            </a:r>
            <a:r>
              <a:rPr b="0" i="1" lang="en-US" sz="2400" spc="-1" strike="noStrike">
                <a:solidFill>
                  <a:srgbClr val="6963a8"/>
                </a:solidFill>
                <a:latin typeface="Symbol"/>
                <a:ea typeface="Symbol"/>
              </a:rPr>
              <a:t></a:t>
            </a:r>
            <a:r>
              <a:rPr b="0" i="1" lang="en-US" sz="2400" spc="-1" strike="noStrike">
                <a:solidFill>
                  <a:srgbClr val="6963a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522760" y="4672080"/>
            <a:ext cx="3438720" cy="163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6963a8"/>
                </a:solidFill>
                <a:latin typeface="Times New Roman"/>
              </a:rPr>
              <a:t>S(q,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82520" y="1646280"/>
            <a:ext cx="603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nstrument geometry (IDF) fix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mporter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Corrections for the detector parallax and efficiency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Possibility to use any ToF algorithm, e.g. ConvertUnits, SofQ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LL IN4 and IN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LLB MiBé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P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FRM2 Tof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HZB N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585880" y="179280"/>
            <a:ext cx="6415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22228b"/>
                </a:solidFill>
                <a:latin typeface="Arial"/>
              </a:rPr>
              <a:t>Task 3: Prototype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2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P6 - NMI3-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39B53-7DE8-490B-9775-2080BE972E40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14400" y="1050840"/>
            <a:ext cx="7956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6963a8"/>
                </a:solidFill>
                <a:latin typeface="Arial"/>
              </a:rPr>
              <a:t>Mantid: ILL IN5 (To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400800" y="1079640"/>
            <a:ext cx="2286000" cy="1390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6400800" y="2651040"/>
            <a:ext cx="2286000" cy="1371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182520" y="1646280"/>
            <a:ext cx="603576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nstrument geometry (IDF) fix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mporter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Corrections for the detector parallax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Possibility to use any ToF algorithm, e.g. ConvertUnits, SofQ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P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No link with VATES yet for single X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585880" y="179280"/>
            <a:ext cx="6415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22228b"/>
                </a:solidFill>
                <a:latin typeface="Arial"/>
              </a:rPr>
              <a:t>Task 3: Prototype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2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P6 - NMI3-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F5702-47F4-4A29-842E-5DB891AFF0BE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914400" y="1050840"/>
            <a:ext cx="7956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6963a8"/>
                </a:solidFill>
                <a:latin typeface="Arial"/>
              </a:rPr>
              <a:t>Mantid: ILL D33 (ToF SAN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126120" y="1279440"/>
            <a:ext cx="2739960" cy="164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126120" y="3030480"/>
            <a:ext cx="2743200" cy="1631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57200" y="1828800"/>
            <a:ext cx="59864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nstrument geometry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mporter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Ready for ILL D11 and D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P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ssue with two implementations for SANS algorithms / GUIs (SNS vs. IS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Trips to ISIS (Dec) and SNS (Jan)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Should be OK for series of acqui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(not fixed but not scanning → group for e.g. stop-flow ce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585880" y="179280"/>
            <a:ext cx="6415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22228b"/>
                </a:solidFill>
                <a:latin typeface="Arial"/>
              </a:rPr>
              <a:t>Task 3: Prototype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P6 - NMI3-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289D0-DDEC-4C0B-A1FC-25378536A745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14400" y="1050840"/>
            <a:ext cx="7437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6963a8"/>
                </a:solidFill>
                <a:latin typeface="Arial"/>
              </a:rPr>
              <a:t>Mantid: ILL D2B (HR powder diffractomet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65040" y="1828800"/>
            <a:ext cx="63309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nstrument geometry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Data importer for a single scan 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P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How to merge different geometri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No detector corrections y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Solve this case before switching to e.g. TAS 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(complex scan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475320" y="1484280"/>
            <a:ext cx="2524320" cy="1982880"/>
          </a:xfrm>
          <a:prstGeom prst="rect">
            <a:avLst/>
          </a:prstGeom>
          <a:ln w="0">
            <a:noFill/>
          </a:ln>
        </p:spPr>
      </p:pic>
      <p:sp>
        <p:nvSpPr>
          <p:cNvPr id="138" name="Line 7"/>
          <p:cNvSpPr/>
          <p:nvPr/>
        </p:nvSpPr>
        <p:spPr>
          <a:xfrm>
            <a:off x="6840360" y="3024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475320" y="3168720"/>
            <a:ext cx="76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Sc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25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8280360" y="2808360"/>
            <a:ext cx="636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overl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585880" y="179280"/>
            <a:ext cx="6415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22228b"/>
                </a:solidFill>
                <a:latin typeface="Arial"/>
              </a:rPr>
              <a:t>Task 3: Prototype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2"/>
          <a:srcRect l="20281" t="13902" r="9509" b="7286"/>
          <a:stretch/>
        </p:blipFill>
        <p:spPr>
          <a:xfrm>
            <a:off x="6350040" y="3573360"/>
            <a:ext cx="2759040" cy="160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3"/>
          <a:stretch/>
        </p:blipFill>
        <p:spPr>
          <a:xfrm>
            <a:off x="6442200" y="5084640"/>
            <a:ext cx="273816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2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P6 - NMI3-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161FE-3B7D-476B-BDB1-856A9C38CC8E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914400" y="1050840"/>
            <a:ext cx="7869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6963a8"/>
                </a:solidFill>
                <a:latin typeface="Arial"/>
              </a:rPr>
              <a:t>Mantid: interface to McStas (ILL and DTU/Riso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65040" y="1828800"/>
            <a:ext cx="683424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McStas geometry exported to an IDF for Mant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Loader for McStas NeXus result files (events, histogra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P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Still experimental, but promi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7029360" y="2195640"/>
            <a:ext cx="1538280" cy="900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585880" y="179280"/>
            <a:ext cx="6415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22228b"/>
                </a:solidFill>
                <a:latin typeface="Arial"/>
              </a:rPr>
              <a:t>Task 3: Prototype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2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P6 - NMI3-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07082-9AEC-48F9-B353-F5ED8E681B13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914400" y="1050840"/>
            <a:ext cx="7869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6963a8"/>
                </a:solidFill>
                <a:latin typeface="Arial"/>
              </a:rPr>
              <a:t>Mantid: interface to other software (LAMP,iFi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365040" y="1828800"/>
            <a:ext cx="63309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An algorithm can send any script to an external software, and get results through a temporary NeXus file to create a workspace transparen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Tested with LAMP and i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Coded in Python, not contributed (testin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&lt;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github.com/ricleal/AllToMantid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P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Only seen as a temporary hack, but may be handy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767640" y="1944720"/>
            <a:ext cx="2087280" cy="6476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Mantid Al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Python (IO pip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767640" y="4356000"/>
            <a:ext cx="2087280" cy="6476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External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(LAMP, NeX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6983280" y="2664000"/>
            <a:ext cx="180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7199280" y="2664000"/>
            <a:ext cx="180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 rot="16140000">
            <a:off x="6665040" y="3029400"/>
            <a:ext cx="922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orkspa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(NeX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8496360" y="2660760"/>
            <a:ext cx="1440" cy="15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6140000">
            <a:off x="7945920" y="3223080"/>
            <a:ext cx="86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ork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(NeX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2"/>
          <a:stretch/>
        </p:blipFill>
        <p:spPr>
          <a:xfrm>
            <a:off x="6870600" y="5148360"/>
            <a:ext cx="760680" cy="357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3"/>
          <a:stretch/>
        </p:blipFill>
        <p:spPr>
          <a:xfrm>
            <a:off x="7948440" y="5122800"/>
            <a:ext cx="763920" cy="420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2585880" y="179280"/>
            <a:ext cx="6415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22228b"/>
                </a:solidFill>
                <a:latin typeface="Arial"/>
              </a:rPr>
              <a:t>Task 3: Prototype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6963a8"/>
                </a:solidFill>
                <a:latin typeface="Times New Roman"/>
              </a:rPr>
              <a:t>WP6 - NMI3-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C8A22-DF4F-4BE1-BB3E-3ADF01804D12}" type="slidenum"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14400" y="1050840"/>
            <a:ext cx="7956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6963a8"/>
                </a:solidFill>
                <a:latin typeface="Arial"/>
              </a:rPr>
              <a:t>Mantid: a few though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87280" y="1657440"/>
            <a:ext cx="87073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6963a8"/>
                </a:solidFill>
                <a:latin typeface="Times New Roman"/>
              </a:rPr>
              <a:t>Redundancy</a:t>
            </a:r>
            <a:r>
              <a:rPr b="0" lang="en-US" sz="2200" spc="-1" strike="noStrike">
                <a:solidFill>
                  <a:srgbClr val="6963a8"/>
                </a:solidFill>
                <a:latin typeface="Times New Roman"/>
              </a:rPr>
              <a:t> in algorithms makes algorithm choice sometimes trick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6963a8"/>
                </a:solidFill>
                <a:latin typeface="Times New Roman"/>
                <a:ea typeface="WenQuanYi Micro Hei"/>
              </a:rPr>
              <a:t>(which one ? “ SANS” “SofQW”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6963a8"/>
                </a:solidFill>
                <a:latin typeface="Times New Roman"/>
              </a:rPr>
              <a:t>Python</a:t>
            </a:r>
            <a:r>
              <a:rPr b="0" lang="en-US" sz="2200" spc="-1" strike="noStrike">
                <a:solidFill>
                  <a:srgbClr val="6963a8"/>
                </a:solidFill>
                <a:latin typeface="Times New Roman"/>
              </a:rPr>
              <a:t> algorithms preferred (esp. for scientist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6963a8"/>
                </a:solidFill>
                <a:latin typeface="Times New Roman"/>
                <a:ea typeface="WenQuanYi Micro Hei"/>
              </a:rPr>
              <a:t>avoid C++ complexity, unless computational speed requir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6963a8"/>
                </a:solidFill>
                <a:latin typeface="Times New Roman"/>
              </a:rPr>
              <a:t>Scanning/moving instruments </a:t>
            </a:r>
            <a:r>
              <a:rPr b="0" lang="en-US" sz="2200" spc="-1" strike="noStrike">
                <a:solidFill>
                  <a:srgbClr val="6963a8"/>
                </a:solidFill>
                <a:latin typeface="Times New Roman"/>
              </a:rPr>
              <a:t> ‘challenges’ in Mantid framewo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6963a8"/>
                </a:solidFill>
                <a:latin typeface="Times New Roman"/>
              </a:rPr>
              <a:t>GIT repository</a:t>
            </a:r>
            <a:r>
              <a:rPr b="0" lang="en-GB" sz="2200" spc="-1" strike="noStrike">
                <a:solidFill>
                  <a:srgbClr val="6963a8"/>
                </a:solidFill>
                <a:latin typeface="Times New Roman"/>
              </a:rPr>
              <a:t> – NMI3 developments continuously injected, included in Mantid project release, and packaged for distributio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6963a8"/>
                </a:solidFill>
                <a:latin typeface="Times New Roman"/>
              </a:rPr>
              <a:t>Documentation</a:t>
            </a:r>
            <a:r>
              <a:rPr b="0" lang="en-US" sz="2200" spc="-1" strike="noStrike">
                <a:solidFill>
                  <a:srgbClr val="6963a8"/>
                </a:solidFill>
                <a:latin typeface="Times New Roman"/>
              </a:rPr>
              <a:t> – structure and content for developers and us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6963a8"/>
                </a:solidFill>
                <a:latin typeface="Times New Roman"/>
              </a:rPr>
              <a:t>Meetings</a:t>
            </a:r>
            <a:r>
              <a:rPr b="0" lang="en-US" sz="2200" spc="-1" strike="noStrike">
                <a:solidFill>
                  <a:srgbClr val="6963a8"/>
                </a:solidFill>
                <a:latin typeface="Times New Roman"/>
              </a:rPr>
              <a:t> for developers in Jan 2014 at SNS  (user meeting attended in September 2013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765520" y="179280"/>
            <a:ext cx="6414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22228b"/>
                </a:solidFill>
                <a:latin typeface="Arial"/>
              </a:rPr>
              <a:t>Task 3: Prototype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2:30:16Z</dcterms:created>
  <dc:creator>Ana Claver</dc:creator>
  <dc:description/>
  <dc:language>en-US</dc:language>
  <cp:lastModifiedBy>Mark Robert Johnson</cp:lastModifiedBy>
  <dcterms:modified xsi:type="dcterms:W3CDTF">2013-11-28T14:40:35Z</dcterms:modified>
  <cp:revision>17</cp:revision>
  <dc:subject/>
  <dc:title>ESS Powerpoint Presentation</dc:title>
</cp:coreProperties>
</file>