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FEF-19B6-497E-804F-E639E0AF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84582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6760" y="4138560"/>
            <a:ext cx="84582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0A2-F6C2-4E29-808C-B4F62268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85724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6760" y="413856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413856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7B7-FBE0-4F57-AC59-B6229DB3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2723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600" y="1857240"/>
            <a:ext cx="2723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857240"/>
            <a:ext cx="2723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6760" y="4138560"/>
            <a:ext cx="2723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600" y="4138560"/>
            <a:ext cx="2723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4138560"/>
            <a:ext cx="2723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7E8-8EF2-4AC4-8DD3-EBF898B2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6760" y="1857240"/>
            <a:ext cx="8458200" cy="43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E00-8B06-4ACA-8284-CC4C1139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84582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990-DF17-44DF-9680-E301C0B9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1274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857240"/>
            <a:ext cx="41274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E94-E500-46F9-A5C6-E09AC6BF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1CB-6E71-475B-A552-E17A42C5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141200"/>
            <a:ext cx="795672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A46-E6DF-45AC-9BF5-B3D222F8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857240"/>
            <a:ext cx="41274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6760" y="413856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185-8289-4C5F-87BB-AC64BF57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1274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85724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413856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8D4-9D6C-4CAA-9D34-02409CFD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049400"/>
            <a:ext cx="7956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857240"/>
            <a:ext cx="41274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6760" y="4138560"/>
            <a:ext cx="84582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D12-6FD8-487D-9BAF-31297015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db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963a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141200"/>
            <a:ext cx="79567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3a8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6760" y="1857240"/>
            <a:ext cx="84582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dbac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dbac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dbac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963a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963a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3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598A-5748-4058-8EE6-1446D8D94941}" type="datetime">
              <a:rPr b="1" lang="en-GB" sz="10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© 2004 NM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22860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8FE7-2437-4129-8320-729E94FF6ED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4"/>
          <p:cNvSpPr/>
          <p:nvPr/>
        </p:nvSpPr>
        <p:spPr>
          <a:xfrm>
            <a:off x="6269760" y="6660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963a8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6963a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963a8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6963a8"/>
              </a:solidFill>
              <a:latin typeface="Times New Roman"/>
            </a:endParaRPr>
          </a:p>
        </p:txBody>
      </p:sp>
      <p:pic>
        <p:nvPicPr>
          <p:cNvPr id="7" name="Picture 25" descr="PPT_Banner_neu"/>
          <p:cNvPicPr/>
          <p:nvPr/>
        </p:nvPicPr>
        <p:blipFill>
          <a:blip r:embed="rId2"/>
          <a:stretch/>
        </p:blipFill>
        <p:spPr>
          <a:xfrm>
            <a:off x="0" y="0"/>
            <a:ext cx="9144000" cy="107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3808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13BC-F06A-4E93-A726-6C3634004ED1}" type="datetime">
              <a:rPr b="1" lang="en-GB" sz="10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6963a8"/>
              </a:solidFill>
              <a:latin typeface="Times New Roman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© 2004 NMI3</a:t>
            </a:r>
            <a:endParaRPr b="0" lang="en-US" sz="1000" spc="-1" strike="noStrike">
              <a:solidFill>
                <a:srgbClr val="6963a8"/>
              </a:solidFill>
              <a:latin typeface="Times New Roman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553080"/>
            <a:ext cx="228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812-8093-46F7-AD0D-FE9AA2845B5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963a8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141200"/>
            <a:ext cx="795672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6963a8"/>
                </a:solidFill>
                <a:latin typeface="Arial"/>
              </a:rPr>
              <a:t>New template for the NMI3 project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4582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963a8"/>
                </a:solidFill>
                <a:latin typeface="Arial"/>
              </a:rPr>
              <a:t>This is an example of the new ppt template used for general purpouses.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963a8"/>
                </a:solidFill>
                <a:latin typeface="Arial"/>
              </a:rPr>
              <a:t>If the template is used by one of the partners the logo of the correspondant laboratory can be added beside the “point of light”on the right of the banner.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963a8"/>
                </a:solidFill>
                <a:latin typeface="Arial"/>
              </a:rPr>
              <a:t>I could provide diferent templates already with the logo of the NMI3 partners included.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3808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412-FDA7-4AFE-82CE-70C03E62F5F4}" type="datetime">
              <a:rPr b="1" lang="en-GB" sz="10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000" spc="-1" strike="noStrike">
              <a:solidFill>
                <a:srgbClr val="6963a8"/>
              </a:solidFill>
              <a:latin typeface="Times New Roman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© 2004 NMI3</a:t>
            </a:r>
            <a:endParaRPr b="0" lang="en-US" sz="1000" spc="-1" strike="noStrike">
              <a:solidFill>
                <a:srgbClr val="6963a8"/>
              </a:solidFill>
              <a:latin typeface="Times New Roman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553080"/>
            <a:ext cx="228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85D3-99F8-4DE3-BC10-59A1DCB98D3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963a8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141200"/>
            <a:ext cx="795672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6963a8"/>
                </a:solidFill>
                <a:latin typeface="Arial"/>
              </a:rPr>
              <a:t>Click here to insert page title</a:t>
            </a:r>
            <a:endParaRPr b="1" lang="en-US" sz="2600" spc="-1" strike="noStrike">
              <a:solidFill>
                <a:srgbClr val="6963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4582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963a8"/>
                </a:solidFill>
                <a:latin typeface="Arial"/>
              </a:rPr>
              <a:t>Click here to insert text</a:t>
            </a:r>
            <a:endParaRPr b="0" lang="en-US" sz="2000" spc="-1" strike="noStrike">
              <a:solidFill>
                <a:srgbClr val="6963a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dbac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963a8"/>
                </a:solidFill>
                <a:latin typeface="Arial"/>
              </a:rPr>
              <a:t>Click here to insert text</a:t>
            </a:r>
            <a:endParaRPr b="0" lang="en-US" sz="1800" spc="-1" strike="noStrike">
              <a:solidFill>
                <a:srgbClr val="6963a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dbac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963a8"/>
                </a:solidFill>
                <a:latin typeface="Arial"/>
              </a:rPr>
              <a:t>Click here to insert text</a:t>
            </a:r>
            <a:endParaRPr b="0" lang="en-US" sz="1600" spc="-1" strike="noStrike">
              <a:solidFill>
                <a:srgbClr val="6963a8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dbac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963a8"/>
                </a:solidFill>
                <a:latin typeface="Arial"/>
              </a:rPr>
              <a:t>Click here to insert text</a:t>
            </a:r>
            <a:endParaRPr b="0" lang="en-US" sz="1400" spc="-1" strike="noStrike">
              <a:solidFill>
                <a:srgbClr val="6963a8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3dbacf"/>
              </a:buClr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963a8"/>
                </a:solidFill>
                <a:latin typeface="Arial"/>
              </a:rPr>
              <a:t>Click here to insert text</a:t>
            </a:r>
            <a:endParaRPr b="0" lang="en-US" sz="1200" spc="-1" strike="noStrike">
              <a:solidFill>
                <a:srgbClr val="6963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2:30:16Z</dcterms:created>
  <dc:creator>Ana Claver</dc:creator>
  <dc:description/>
  <dc:language>en-US</dc:language>
  <cp:lastModifiedBy>Miriam Forster</cp:lastModifiedBy>
  <dcterms:modified xsi:type="dcterms:W3CDTF">2009-03-09T15:15:32Z</dcterms:modified>
  <cp:revision>11</cp:revision>
  <dc:subject/>
  <dc:title>ESS Powerpoint Presentation</dc:title>
</cp:coreProperties>
</file>