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2640" cy="3419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600" spc="-1" strike="noStrike">
                <a:solidFill>
                  <a:srgbClr val="6963a8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198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6244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D6F8F-21E0-49FB-9C3A-95CBF5BA5D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403DD-A3A4-4966-8EA3-221203011B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8096A-8E8C-47B8-9D6F-B1A7E677A4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F092A-4CC7-442F-A05D-96D1BFB138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F2CD5-64BA-4F72-A8DA-0F81A851A1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9084F-35BF-4767-AE87-6D11AA6038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3095D-F6BA-445E-A477-B71B9D466B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1046880"/>
            <a:ext cx="79470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6760" y="1856880"/>
            <a:ext cx="84488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760" y="4133520"/>
            <a:ext cx="84488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EAF1C-F8E0-4871-AECC-B709BD2BB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1046880"/>
            <a:ext cx="79470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56760" y="1856880"/>
            <a:ext cx="412272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6120" y="1856880"/>
            <a:ext cx="412272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56760" y="4133520"/>
            <a:ext cx="412272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6120" y="4133520"/>
            <a:ext cx="412272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B0CC3-44E2-496D-B684-92D3DDC9E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1046880"/>
            <a:ext cx="79470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56760" y="1856880"/>
            <a:ext cx="27201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3360" y="1856880"/>
            <a:ext cx="27201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9960" y="1856880"/>
            <a:ext cx="27201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56760" y="4133520"/>
            <a:ext cx="27201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3360" y="4133520"/>
            <a:ext cx="27201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9960" y="4133520"/>
            <a:ext cx="27201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0CD6-6DDA-462C-B440-B7AA42D7ED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046880"/>
            <a:ext cx="79470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56760" y="1856880"/>
            <a:ext cx="844884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0C7F2-F980-4B58-ADF8-01C166503F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046880"/>
            <a:ext cx="79470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6760" y="1856880"/>
            <a:ext cx="844884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B1357-F1AB-4D24-8B44-04D62D1C8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046880"/>
            <a:ext cx="79470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56760" y="1856880"/>
            <a:ext cx="412272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6120" y="1856880"/>
            <a:ext cx="412272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E080-6071-4904-AD86-4B5D7A82F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046880"/>
            <a:ext cx="79470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1060C-03BF-44D9-9C53-A0D6B05528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1049040"/>
            <a:ext cx="794700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B518B-ED93-4612-B0FA-F487365EE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1046880"/>
            <a:ext cx="79470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6760" y="1856880"/>
            <a:ext cx="412272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120" y="1856880"/>
            <a:ext cx="412272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6760" y="4133520"/>
            <a:ext cx="412272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B2AF-4D97-4A91-9BD4-671A73985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1046880"/>
            <a:ext cx="79470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6760" y="1856880"/>
            <a:ext cx="412272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120" y="1856880"/>
            <a:ext cx="412272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6120" y="4133520"/>
            <a:ext cx="412272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7970A-3D8C-407A-98DA-B88B820CC9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1046880"/>
            <a:ext cx="79470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6760" y="1856880"/>
            <a:ext cx="412272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120" y="1856880"/>
            <a:ext cx="412272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56760" y="4133520"/>
            <a:ext cx="84488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91DF-D33A-49CE-BEC3-4B2C80CC8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db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1049040"/>
            <a:ext cx="79470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6963a8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56760" y="1856880"/>
            <a:ext cx="844884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963a8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963a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963a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963a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963a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963a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963a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6553080"/>
            <a:ext cx="189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6553080"/>
            <a:ext cx="288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3080" y="6553080"/>
            <a:ext cx="22766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CCDED-5884-47D1-811A-EB0DFB0764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269040" y="66600"/>
            <a:ext cx="101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6963a8"/>
                </a:solidFill>
                <a:latin typeface="Arial"/>
              </a:rPr>
              <a:t>your log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6963a8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64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36440" y="6553080"/>
            <a:ext cx="288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WP6 – NMI3-II – March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hyperlink" Target="http://www.neutronsources.org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87600" y="-100080"/>
            <a:ext cx="6656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Data Analysis Standards (WP6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1960" y="2286000"/>
            <a:ext cx="86184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963a8"/>
                </a:solidFill>
                <a:latin typeface="Arial"/>
              </a:rPr>
              <a:t>9 scientific computing groups contrib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963a8"/>
                </a:solidFill>
                <a:latin typeface="Arial"/>
              </a:rPr>
              <a:t>Our tasks: evaluate and facilitate common development in reduction/analysis for n/</a:t>
            </a:r>
            <a:r>
              <a:rPr b="1" lang="en-US" sz="2400" spc="-1" strike="noStrike">
                <a:solidFill>
                  <a:srgbClr val="6963a8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6963a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963a8"/>
                </a:solidFill>
                <a:latin typeface="Arial"/>
              </a:rPr>
              <a:t>Task 1 : Review existing data analysis software and practices of software develop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963a8"/>
                </a:solidFill>
                <a:latin typeface="Arial"/>
              </a:rPr>
              <a:t>Task 2: Review existing solutions for a common data analysis infrastruc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963a8"/>
                </a:solidFill>
                <a:latin typeface="Arial"/>
              </a:rPr>
              <a:t>Task 3: Develop prototype software in chosen solution for representative applications </a:t>
            </a:r>
            <a:r>
              <a:rPr b="1" i="1" lang="en-US" sz="1800" spc="-1" strike="noStrike">
                <a:solidFill>
                  <a:srgbClr val="009933"/>
                </a:solidFill>
                <a:latin typeface="Arial"/>
              </a:rPr>
              <a:t>(90% don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963a8"/>
                </a:solidFill>
                <a:latin typeface="Arial"/>
              </a:rPr>
              <a:t>Task 4: Evaluate prototype software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(when project ends – Sept 201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052640"/>
            <a:ext cx="806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963a8"/>
                </a:solidFill>
                <a:latin typeface="Times New Roman"/>
              </a:rPr>
              <a:t>ILL (lead), STFC/ISIS, TUM and JCNS (FRM2), PSI, HZB, CEA LLB, HZG/Hamburg, ESS Lund/Copenha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963a8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6666ff"/>
                </a:solidFill>
                <a:latin typeface="Times New Roman"/>
              </a:rPr>
              <a:t>http://nmi3.eu/about-nmi3/networking/data-analysis-standards.html</a:t>
            </a:r>
            <a:r>
              <a:rPr b="0" lang="en-US" sz="1800" spc="-1" strike="noStrike">
                <a:solidFill>
                  <a:srgbClr val="6963a8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360" y="389556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44360" y="450864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44360" y="4869000"/>
            <a:ext cx="441360" cy="4413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 flipV="1">
            <a:off x="5931000" y="2154240"/>
            <a:ext cx="11160" cy="866880"/>
          </a:xfrm>
          <a:prstGeom prst="line">
            <a:avLst/>
          </a:prstGeom>
          <a:ln cap="sq" w="3600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365640" y="2172960"/>
            <a:ext cx="1440" cy="1413000"/>
          </a:xfrm>
          <a:prstGeom prst="line">
            <a:avLst/>
          </a:prstGeom>
          <a:ln cap="sq" w="3600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110200" y="2154240"/>
            <a:ext cx="3240" cy="1952640"/>
          </a:xfrm>
          <a:prstGeom prst="line">
            <a:avLst/>
          </a:prstGeom>
          <a:ln cap="sq" w="3600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176720" y="2155680"/>
            <a:ext cx="1440" cy="2673360"/>
          </a:xfrm>
          <a:prstGeom prst="line">
            <a:avLst/>
          </a:prstGeom>
          <a:ln cap="sq" w="3600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6553080"/>
            <a:ext cx="2279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88E0A-04A7-42E3-94D1-5ECE51632920}" type="slidenum"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03520" y="333360"/>
            <a:ext cx="62895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Arial"/>
              </a:rPr>
              <a:t>WP6 – progr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92000" y="2160720"/>
            <a:ext cx="863640" cy="1440"/>
          </a:xfrm>
          <a:prstGeom prst="line">
            <a:avLst/>
          </a:prstGeom>
          <a:ln cap="sq" w="360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55640" y="2160720"/>
            <a:ext cx="863640" cy="1440"/>
          </a:xfrm>
          <a:prstGeom prst="line">
            <a:avLst/>
          </a:prstGeom>
          <a:ln cap="sq"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9280" y="2160720"/>
            <a:ext cx="863640" cy="1440"/>
          </a:xfrm>
          <a:prstGeom prst="line">
            <a:avLst/>
          </a:prstGeom>
          <a:ln cap="sq"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84720" y="2160720"/>
            <a:ext cx="863280" cy="1440"/>
          </a:xfrm>
          <a:prstGeom prst="line">
            <a:avLst/>
          </a:prstGeom>
          <a:ln cap="sq"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48000" y="2160720"/>
            <a:ext cx="863640" cy="1440"/>
          </a:xfrm>
          <a:prstGeom prst="line">
            <a:avLst/>
          </a:prstGeom>
          <a:ln cap="sq"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11640" y="2160720"/>
            <a:ext cx="863640" cy="1440"/>
          </a:xfrm>
          <a:prstGeom prst="line">
            <a:avLst/>
          </a:prstGeom>
          <a:ln cap="sq"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75280" y="2160720"/>
            <a:ext cx="863640" cy="1440"/>
          </a:xfrm>
          <a:prstGeom prst="line">
            <a:avLst/>
          </a:prstGeom>
          <a:ln cap="sq"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40360" y="2160720"/>
            <a:ext cx="863640" cy="1440"/>
          </a:xfrm>
          <a:prstGeom prst="line">
            <a:avLst/>
          </a:prstGeom>
          <a:ln cap="sq"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04000" y="2160720"/>
            <a:ext cx="863640" cy="1440"/>
          </a:xfrm>
          <a:prstGeom prst="line">
            <a:avLst/>
          </a:prstGeom>
          <a:ln cap="sq"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0000" y="2195640"/>
            <a:ext cx="257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03640" y="2195640"/>
            <a:ext cx="257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68720" y="2195640"/>
            <a:ext cx="257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90960" y="2195640"/>
            <a:ext cx="333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59280" y="2195640"/>
            <a:ext cx="333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24360" y="2195640"/>
            <a:ext cx="333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2195640"/>
            <a:ext cx="333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15280" y="2195640"/>
            <a:ext cx="333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15280" y="2195640"/>
            <a:ext cx="333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6963a8"/>
                </a:solidFill>
                <a:latin typeface="Times New Roman"/>
              </a:rPr>
              <a:t>2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655640" y="2011320"/>
            <a:ext cx="1800" cy="154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19280" y="1940040"/>
            <a:ext cx="1800" cy="2253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384720" y="1652760"/>
            <a:ext cx="1440" cy="5126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8000" y="1844640"/>
            <a:ext cx="777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6963a8"/>
                </a:solidFill>
                <a:latin typeface="Times New Roman"/>
              </a:rPr>
              <a:t>July 20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221680" y="1844640"/>
            <a:ext cx="7952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6963a8"/>
                </a:solidFill>
                <a:latin typeface="Times New Roman"/>
              </a:rPr>
              <a:t>Sept 20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2360" y="2448000"/>
            <a:ext cx="1584360" cy="503280"/>
          </a:xfrm>
          <a:prstGeom prst="rect">
            <a:avLst/>
          </a:prstGeom>
          <a:solidFill>
            <a:srgbClr val="cfe7f5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Neutron Software Analysi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Preliminary mantid analysi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(code + functionalities)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68360" y="3024360"/>
            <a:ext cx="1152720" cy="502920"/>
          </a:xfrm>
          <a:prstGeom prst="rect">
            <a:avLst/>
          </a:prstGeom>
          <a:solidFill>
            <a:srgbClr val="cfe7f5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Mantid Learning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First test IDF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First test algorith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57160" y="3600360"/>
            <a:ext cx="2527560" cy="1152720"/>
          </a:xfrm>
          <a:prstGeom prst="rect">
            <a:avLst/>
          </a:prstGeom>
          <a:solidFill>
            <a:srgbClr val="cfe7f5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IDF for IN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Loader for ILL Nexu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IDF for IN4,IN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Detector correction algorith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IDF and Loader for PSI Focu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IDF and Loader for LLB MiBem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script preparation and testing for data redu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87640" y="4824360"/>
            <a:ext cx="2087640" cy="1211400"/>
          </a:xfrm>
          <a:prstGeom prst="rect">
            <a:avLst/>
          </a:prstGeom>
          <a:solidFill>
            <a:srgbClr val="cfe7f5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D33 ID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Loader for Nexus SANS data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(including detector repositioning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Analysis of SANS reduction co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IDF for D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Importing ILL ASCII data into Manti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Reduction/analysis 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NMI3/ILL Live DV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655640" y="2190600"/>
            <a:ext cx="1800" cy="262080"/>
          </a:xfrm>
          <a:prstGeom prst="line">
            <a:avLst/>
          </a:prstGeom>
          <a:ln cap="sq" w="3600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19280" y="2190240"/>
            <a:ext cx="1800" cy="838440"/>
          </a:xfrm>
          <a:prstGeom prst="line">
            <a:avLst/>
          </a:prstGeom>
          <a:ln cap="sq" w="3600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92000" y="1579680"/>
            <a:ext cx="1800" cy="512640"/>
          </a:xfrm>
          <a:prstGeom prst="line">
            <a:avLst/>
          </a:prstGeom>
          <a:ln cap="sq" w="9360">
            <a:solidFill>
              <a:srgbClr val="99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1640" y="1368360"/>
            <a:ext cx="849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P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11640" y="4103640"/>
            <a:ext cx="1981440" cy="755640"/>
          </a:xfrm>
          <a:prstGeom prst="rect">
            <a:avLst/>
          </a:prstGeom>
          <a:solidFill>
            <a:srgbClr val="cfe7f5"/>
          </a:solidFill>
          <a:ln cap="sq"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IDF for D2b (dynamic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Algorithm to import D2b (scanning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Algorithm to external softwa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McStas/NeXus ready for Manti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Loaders for D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176720" y="1652400"/>
            <a:ext cx="1440" cy="5475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1800360"/>
            <a:ext cx="1440" cy="360360"/>
          </a:xfrm>
          <a:prstGeom prst="line">
            <a:avLst/>
          </a:prstGeom>
          <a:ln cap="sq" w="720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88000" y="1511280"/>
            <a:ext cx="912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6963a8"/>
                </a:solidFill>
                <a:latin typeface="Times New Roman"/>
              </a:rPr>
              <a:t>TOD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11640" y="1795320"/>
            <a:ext cx="1800" cy="370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92000" y="2011320"/>
            <a:ext cx="863640" cy="138240"/>
          </a:xfrm>
          <a:prstGeom prst="line">
            <a:avLst/>
          </a:prstGeom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655640" y="1939680"/>
            <a:ext cx="863640" cy="81000"/>
          </a:xfrm>
          <a:prstGeom prst="line">
            <a:avLst/>
          </a:prstGeom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519280" y="1652760"/>
            <a:ext cx="863640" cy="296640"/>
          </a:xfrm>
          <a:prstGeom prst="line">
            <a:avLst/>
          </a:prstGeom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84720" y="1655640"/>
            <a:ext cx="792000" cy="1800"/>
          </a:xfrm>
          <a:prstGeom prst="line">
            <a:avLst/>
          </a:prstGeom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76720" y="1655640"/>
            <a:ext cx="936720" cy="144720"/>
          </a:xfrm>
          <a:prstGeom prst="line">
            <a:avLst/>
          </a:prstGeom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13080" y="1728720"/>
            <a:ext cx="1800" cy="360360"/>
          </a:xfrm>
          <a:prstGeom prst="line">
            <a:avLst/>
          </a:prstGeom>
          <a:ln cap="sq" w="720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79640" y="1341360"/>
            <a:ext cx="9921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6963a8"/>
                </a:solidFill>
                <a:latin typeface="Times New Roman"/>
              </a:rPr>
              <a:t>Task 1 re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0720" y="1187280"/>
            <a:ext cx="144360" cy="14472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59160" y="1187280"/>
            <a:ext cx="144360" cy="14472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90960" y="1187280"/>
            <a:ext cx="144360" cy="14472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1116000"/>
            <a:ext cx="1263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6963a8"/>
                </a:solidFill>
                <a:latin typeface="Times New Roman"/>
              </a:rPr>
              <a:t>← </a:t>
            </a:r>
            <a:r>
              <a:rPr b="1" lang="en-US" sz="1600" spc="-1" strike="noStrike">
                <a:solidFill>
                  <a:srgbClr val="6963a8"/>
                </a:solidFill>
                <a:latin typeface="Times New Roman"/>
              </a:rPr>
              <a:t>WP6 meeting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3017880"/>
            <a:ext cx="1981440" cy="941400"/>
          </a:xfrm>
          <a:prstGeom prst="rect">
            <a:avLst/>
          </a:prstGeom>
          <a:solidFill>
            <a:srgbClr val="cfe7f5"/>
          </a:solidFill>
          <a:ln cap="sq"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Reduction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SANS reduction for D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FlightPath Correction for TOF (fix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LAMP communic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IDF for IN16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McStas/Mantid 3D view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940360" y="1733400"/>
            <a:ext cx="1800" cy="4320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04000" y="1795320"/>
            <a:ext cx="1440" cy="370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111640" y="1733400"/>
            <a:ext cx="828720" cy="69840"/>
          </a:xfrm>
          <a:prstGeom prst="line">
            <a:avLst/>
          </a:prstGeom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0360" y="1736640"/>
            <a:ext cx="917640" cy="63720"/>
          </a:xfrm>
          <a:prstGeom prst="line">
            <a:avLst/>
          </a:prstGeom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88000" y="1341360"/>
            <a:ext cx="9921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6963a8"/>
                </a:solidFill>
                <a:latin typeface="Times New Roman"/>
              </a:rPr>
              <a:t>Task 2 re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32280" y="6126120"/>
            <a:ext cx="9921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6963a8"/>
                </a:solidFill>
                <a:latin typeface="Times New Roman"/>
              </a:rPr>
              <a:t>Task 3: 166 commi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649600" y="6308640"/>
            <a:ext cx="1285920" cy="1800"/>
          </a:xfrm>
          <a:prstGeom prst="line">
            <a:avLst/>
          </a:prstGeom>
          <a:ln w="3672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51440" y="6308640"/>
            <a:ext cx="1006560" cy="1800"/>
          </a:xfrm>
          <a:prstGeom prst="line">
            <a:avLst/>
          </a:prstGeom>
          <a:ln w="3672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361280" y="1173240"/>
            <a:ext cx="171360" cy="172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9440" y="6308640"/>
            <a:ext cx="1006560" cy="1800"/>
          </a:xfrm>
          <a:prstGeom prst="line">
            <a:avLst/>
          </a:prstGeom>
          <a:ln w="36720">
            <a:solidFill>
              <a:srgbClr val="ff66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62440" y="5121360"/>
            <a:ext cx="3081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aff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: members time (meeting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hired coder (24 effective month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ct lead (+reports, meeting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254720" y="1185840"/>
            <a:ext cx="1828800" cy="2185920"/>
          </a:xfrm>
          <a:prstGeom prst="rect">
            <a:avLst/>
          </a:prstGeom>
          <a:ln w="9360">
            <a:solidFill>
              <a:srgbClr val="3465af"/>
            </a:solidFill>
            <a:round/>
          </a:ln>
        </p:spPr>
      </p:pic>
      <p:sp>
        <p:nvSpPr>
          <p:cNvPr id="130" name=""/>
          <p:cNvSpPr/>
          <p:nvPr/>
        </p:nvSpPr>
        <p:spPr>
          <a:xfrm>
            <a:off x="1736640" y="333360"/>
            <a:ext cx="7156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6880" y="1589040"/>
            <a:ext cx="863460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73040" indent="-363600">
              <a:buSzPct val="100000"/>
              <a:buBlip>
                <a:blip r:embed="rId2"/>
              </a:buBlip>
              <a:tabLst>
                <a:tab algn="l" pos="930240"/>
                <a:tab algn="l" pos="938160"/>
                <a:tab algn="l" pos="1387440"/>
                <a:tab algn="l" pos="1844640"/>
                <a:tab algn="l" pos="2301840"/>
                <a:tab algn="l" pos="2759040"/>
                <a:tab algn="l" pos="3216240"/>
                <a:tab algn="l" pos="3673440"/>
                <a:tab algn="l" pos="4130640"/>
                <a:tab algn="l" pos="4587840"/>
                <a:tab algn="l" pos="5045040"/>
                <a:tab algn="l" pos="5502240"/>
                <a:tab algn="l" pos="5959440"/>
                <a:tab algn="l" pos="6416640"/>
                <a:tab algn="l" pos="6873840"/>
                <a:tab algn="l" pos="7331040"/>
                <a:tab algn="l" pos="7788240"/>
                <a:tab algn="l" pos="8245440"/>
                <a:tab algn="l" pos="8702640"/>
                <a:tab algn="l" pos="9159840"/>
                <a:tab algn="l" pos="9617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d 24 softwar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3040" indent="-363600">
              <a:buSzPct val="100000"/>
              <a:buBlip>
                <a:blip r:embed="rId3"/>
              </a:buBlip>
              <a:tabLst>
                <a:tab algn="l" pos="930240"/>
                <a:tab algn="l" pos="938160"/>
                <a:tab algn="l" pos="1387440"/>
                <a:tab algn="l" pos="1844640"/>
                <a:tab algn="l" pos="2301840"/>
                <a:tab algn="l" pos="2759040"/>
                <a:tab algn="l" pos="3216240"/>
                <a:tab algn="l" pos="3673440"/>
                <a:tab algn="l" pos="4130640"/>
                <a:tab algn="l" pos="4587840"/>
                <a:tab algn="l" pos="5045040"/>
                <a:tab algn="l" pos="5502240"/>
                <a:tab algn="l" pos="5959440"/>
                <a:tab algn="l" pos="6416640"/>
                <a:tab algn="l" pos="6873840"/>
                <a:tab algn="l" pos="7331040"/>
                <a:tab algn="l" pos="7788240"/>
                <a:tab algn="l" pos="8245440"/>
                <a:tab algn="l" pos="8702640"/>
                <a:tab algn="l" pos="9159840"/>
                <a:tab algn="l" pos="9617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5 involve international collabo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3040" indent="-363600">
              <a:buSzPct val="100000"/>
              <a:buBlip>
                <a:blip r:embed="rId4"/>
              </a:buBlip>
              <a:tabLst>
                <a:tab algn="l" pos="930240"/>
                <a:tab algn="l" pos="938160"/>
                <a:tab algn="l" pos="1387440"/>
                <a:tab algn="l" pos="1844640"/>
                <a:tab algn="l" pos="2301840"/>
                <a:tab algn="l" pos="2759040"/>
                <a:tab algn="l" pos="3216240"/>
                <a:tab algn="l" pos="3673440"/>
                <a:tab algn="l" pos="4130640"/>
                <a:tab algn="l" pos="4587840"/>
                <a:tab algn="l" pos="5045040"/>
                <a:tab algn="l" pos="5502240"/>
                <a:tab algn="l" pos="5959440"/>
                <a:tab algn="l" pos="6416640"/>
                <a:tab algn="l" pos="6873840"/>
                <a:tab algn="l" pos="7331040"/>
                <a:tab algn="l" pos="7788240"/>
                <a:tab algn="l" pos="8245440"/>
                <a:tab algn="l" pos="8702640"/>
                <a:tab algn="l" pos="9159840"/>
                <a:tab algn="l" pos="9617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ctive projects (7) use reposito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3040" indent="-363600">
              <a:buSzPct val="100000"/>
              <a:buBlip>
                <a:blip r:embed="rId5"/>
              </a:buBlip>
              <a:tabLst>
                <a:tab algn="l" pos="930240"/>
                <a:tab algn="l" pos="938160"/>
                <a:tab algn="l" pos="1387440"/>
                <a:tab algn="l" pos="1844640"/>
                <a:tab algn="l" pos="2301840"/>
                <a:tab algn="l" pos="2759040"/>
                <a:tab algn="l" pos="3216240"/>
                <a:tab algn="l" pos="3673440"/>
                <a:tab algn="l" pos="4130640"/>
                <a:tab algn="l" pos="4587840"/>
                <a:tab algn="l" pos="5045040"/>
                <a:tab algn="l" pos="5502240"/>
                <a:tab algn="l" pos="5959440"/>
                <a:tab algn="l" pos="6416640"/>
                <a:tab algn="l" pos="6873840"/>
                <a:tab algn="l" pos="7331040"/>
                <a:tab algn="l" pos="7788240"/>
                <a:tab algn="l" pos="8245440"/>
                <a:tab algn="l" pos="8702640"/>
                <a:tab algn="l" pos="9159840"/>
                <a:tab algn="l" pos="9617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d a LiveDVD for evaluation/scho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3040" indent="-363600">
              <a:buSzPct val="100000"/>
              <a:buBlip>
                <a:blip r:embed="rId6"/>
              </a:buBlip>
              <a:tabLst>
                <a:tab algn="l" pos="930240"/>
                <a:tab algn="l" pos="938160"/>
                <a:tab algn="l" pos="1387440"/>
                <a:tab algn="l" pos="1844640"/>
                <a:tab algn="l" pos="2301840"/>
                <a:tab algn="l" pos="2759040"/>
                <a:tab algn="l" pos="3216240"/>
                <a:tab algn="l" pos="3673440"/>
                <a:tab algn="l" pos="4130640"/>
                <a:tab algn="l" pos="4587840"/>
                <a:tab algn="l" pos="5045040"/>
                <a:tab algn="l" pos="5502240"/>
                <a:tab algn="l" pos="5959440"/>
                <a:tab algn="l" pos="6416640"/>
                <a:tab algn="l" pos="6873840"/>
                <a:tab algn="l" pos="7331040"/>
                <a:tab algn="l" pos="7788240"/>
                <a:tab algn="l" pos="8245440"/>
                <a:tab algn="l" pos="8702640"/>
                <a:tab algn="l" pos="9159840"/>
                <a:tab algn="l" pos="9617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ecent software use Object Oriented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3040" indent="-363600">
              <a:buSzPct val="100000"/>
              <a:buBlip>
                <a:blip r:embed="rId7"/>
              </a:buBlip>
              <a:tabLst>
                <a:tab algn="l" pos="930240"/>
                <a:tab algn="l" pos="938160"/>
                <a:tab algn="l" pos="1387440"/>
                <a:tab algn="l" pos="1844640"/>
                <a:tab algn="l" pos="2301840"/>
                <a:tab algn="l" pos="2759040"/>
                <a:tab algn="l" pos="3216240"/>
                <a:tab algn="l" pos="3673440"/>
                <a:tab algn="l" pos="4130640"/>
                <a:tab algn="l" pos="4587840"/>
                <a:tab algn="l" pos="5045040"/>
                <a:tab algn="l" pos="5502240"/>
                <a:tab algn="l" pos="5959440"/>
                <a:tab algn="l" pos="6416640"/>
                <a:tab algn="l" pos="6873840"/>
                <a:tab algn="l" pos="7331040"/>
                <a:tab algn="l" pos="7788240"/>
                <a:tab algn="l" pos="8245440"/>
                <a:tab algn="l" pos="8702640"/>
                <a:tab algn="l" pos="9159840"/>
                <a:tab algn="l" pos="9617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software use mainly : Fortran, C, C++ and Python langu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3040" indent="-363600">
              <a:buSzPct val="100000"/>
              <a:buBlip>
                <a:blip r:embed="rId8"/>
              </a:buBlip>
              <a:tabLst>
                <a:tab algn="l" pos="930240"/>
                <a:tab algn="l" pos="938160"/>
                <a:tab algn="l" pos="1387440"/>
                <a:tab algn="l" pos="1844640"/>
                <a:tab algn="l" pos="2301840"/>
                <a:tab algn="l" pos="2759040"/>
                <a:tab algn="l" pos="3216240"/>
                <a:tab algn="l" pos="3673440"/>
                <a:tab algn="l" pos="4130640"/>
                <a:tab algn="l" pos="4587840"/>
                <a:tab algn="l" pos="5045040"/>
                <a:tab algn="l" pos="5502240"/>
                <a:tab algn="l" pos="5959440"/>
                <a:tab algn="l" pos="6416640"/>
                <a:tab algn="l" pos="6873840"/>
                <a:tab algn="l" pos="7331040"/>
                <a:tab algn="l" pos="7788240"/>
                <a:tab algn="l" pos="8245440"/>
                <a:tab algn="l" pos="8702640"/>
                <a:tab algn="l" pos="9159840"/>
                <a:tab algn="l" pos="9617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Times New Roman"/>
              </a:rPr>
              <a:t>Mant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oday the largest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680" y="4840200"/>
            <a:ext cx="8594640" cy="1554120"/>
          </a:xfrm>
          <a:prstGeom prst="rect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mmend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Necessity to identify code redundancy and propose </a:t>
            </a:r>
            <a:r>
              <a:rPr b="0" lang="en-US" sz="2400" spc="-1" strike="noStrike">
                <a:solidFill>
                  <a:srgbClr val="ff00cc"/>
                </a:solidFill>
                <a:latin typeface="Times New Roman"/>
              </a:rPr>
              <a:t>low-level shared libra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.g. models, algorithms, I/O routines, interface design templat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hould follow adopted </a:t>
            </a:r>
            <a:r>
              <a:rPr b="0" lang="en-US" sz="2400" spc="-1" strike="noStrike">
                <a:solidFill>
                  <a:srgbClr val="ff00cc"/>
                </a:solidFill>
                <a:latin typeface="Times New Roman"/>
              </a:rPr>
              <a:t>standa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36640" y="398520"/>
            <a:ext cx="7223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Arial"/>
              </a:rPr>
              <a:t>WP6 – Task 1 – Review softw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680" y="1189080"/>
            <a:ext cx="6765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</a:rPr>
              <a:t>We have reviewed the current software landsca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243920" y="1179360"/>
            <a:ext cx="1828800" cy="2568600"/>
          </a:xfrm>
          <a:prstGeom prst="rect">
            <a:avLst/>
          </a:prstGeom>
          <a:ln w="9360">
            <a:solidFill>
              <a:srgbClr val="3465af"/>
            </a:solidFill>
            <a:round/>
          </a:ln>
        </p:spPr>
      </p:pic>
      <p:sp>
        <p:nvSpPr>
          <p:cNvPr id="136" name=""/>
          <p:cNvSpPr/>
          <p:nvPr/>
        </p:nvSpPr>
        <p:spPr>
          <a:xfrm>
            <a:off x="1736640" y="398520"/>
            <a:ext cx="7223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Arial"/>
              </a:rPr>
              <a:t>WP6 – Task 2 – Infrastruc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4680" y="1189080"/>
            <a:ext cx="6765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</a:rPr>
              <a:t>We have reviewed infrastructures used for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4680" y="2103480"/>
            <a:ext cx="69501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location (repository), Collaborative work, Unit testing, Build servers, Code review, Technical docu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SzPct val="100000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distrib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SzPct val="100000"/>
              <a:buBlip>
                <a:blip r:embed="rId4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contrib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SzPct val="100000"/>
              <a:buBlip>
                <a:blip r:embed="rId5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homogene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0520" y="4794120"/>
            <a:ext cx="8486640" cy="1587600"/>
          </a:xfrm>
          <a:prstGeom prst="rect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commenda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provide a </a:t>
            </a:r>
            <a:r>
              <a:rPr b="0" lang="en-GB" sz="2400" spc="-1" strike="noStrike">
                <a:solidFill>
                  <a:srgbClr val="ff00cc"/>
                </a:solidFill>
                <a:latin typeface="Times New Roman"/>
              </a:rPr>
              <a:t>community based development infrastructu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t &lt;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www.neutronsources.or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gt; with GIT/SVN, Redmine platform, Jenkins testing/build, Deb/RPM repos, favour </a:t>
            </a:r>
            <a:r>
              <a:rPr b="0" lang="en-GB" sz="2400" spc="-1" strike="noStrike">
                <a:solidFill>
                  <a:srgbClr val="ff00cc"/>
                </a:solidFill>
                <a:latin typeface="Times New Roman"/>
              </a:rPr>
              <a:t>user contribu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36640" y="399960"/>
            <a:ext cx="7223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Arial"/>
              </a:rPr>
              <a:t>WP6 – Task 3 – Prototyp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680" y="1189080"/>
            <a:ext cx="6765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</a:rPr>
              <a:t>We are experimenting ideas – major WP Ta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680" y="2066760"/>
            <a:ext cx="69501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cc"/>
                </a:solidFill>
                <a:latin typeface="Times New Roman"/>
              </a:rPr>
              <a:t> 'reduction'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can execute any task, with any software, and report resul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ic algorithm for </a:t>
            </a:r>
            <a:r>
              <a:rPr b="0" lang="en-US" sz="2400" spc="-1" strike="noStrike">
                <a:solidFill>
                  <a:srgbClr val="ff00cc"/>
                </a:solidFill>
                <a:latin typeface="Times New Roman"/>
              </a:rPr>
              <a:t>Mant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can use </a:t>
            </a:r>
            <a:r>
              <a:rPr b="0" lang="en-US" sz="2400" spc="-1" strike="noStrike">
                <a:solidFill>
                  <a:srgbClr val="ff00cc"/>
                </a:solidFill>
                <a:latin typeface="Times New Roman"/>
              </a:rPr>
              <a:t>external softw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SzPct val="100000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rs contributed to the </a:t>
            </a:r>
            <a:r>
              <a:rPr b="0" lang="en-US" sz="2400" spc="-1" strike="noStrike">
                <a:solidFill>
                  <a:srgbClr val="ff00cc"/>
                </a:solidFill>
                <a:latin typeface="Times New Roman"/>
              </a:rPr>
              <a:t>Mant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ject, for continuous source instruments and fixes to Algorithm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4-5-6,Focus,MiBemol,D33,D2b,IN16b,Mc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7223040" y="1457280"/>
            <a:ext cx="1755720" cy="995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223040" y="3392640"/>
            <a:ext cx="1825560" cy="10872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7223040" y="2622600"/>
            <a:ext cx="760320" cy="357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8300880" y="2597040"/>
            <a:ext cx="763920" cy="420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132680" y="4664160"/>
            <a:ext cx="2011320" cy="95724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6963a8"/>
                </a:solidFill>
                <a:latin typeface="Times New Roman"/>
              </a:rPr>
              <a:t>S(q,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553080" y="6553080"/>
            <a:ext cx="2279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6D931-FEBD-43C9-9A68-7DE22B21EBA9}" type="slidenum"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1158840"/>
            <a:ext cx="7956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6666ff"/>
                </a:solidFill>
                <a:latin typeface="Times New Roman"/>
              </a:rPr>
              <a:t>Mantid: PSI Focus (ToF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85120" y="1197000"/>
            <a:ext cx="2286000" cy="1361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75480" y="2825640"/>
            <a:ext cx="2286000" cy="1654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6963a8"/>
                </a:solidFill>
                <a:latin typeface="Times New Roman"/>
              </a:rPr>
              <a:t>ConvertUnits (energ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6963a8"/>
                </a:solidFill>
                <a:latin typeface="Times New Roman"/>
              </a:rPr>
              <a:t>S(</a:t>
            </a:r>
            <a:r>
              <a:rPr b="0" i="1" lang="en-US" sz="2400" spc="-1" strike="noStrike">
                <a:solidFill>
                  <a:srgbClr val="6963a8"/>
                </a:solidFill>
                <a:latin typeface="Symbol"/>
                <a:ea typeface="Symbol"/>
              </a:rPr>
              <a:t></a:t>
            </a:r>
            <a:r>
              <a:rPr b="0" i="1" lang="en-US" sz="2400" spc="-1" strike="noStrike">
                <a:solidFill>
                  <a:srgbClr val="6963a8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94400" y="4672080"/>
            <a:ext cx="3438360" cy="1636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6963a8"/>
                </a:solidFill>
                <a:latin typeface="Times New Roman"/>
              </a:rPr>
              <a:t>S(q,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2520" y="1646280"/>
            <a:ext cx="6035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963a8"/>
                </a:solidFill>
                <a:latin typeface="Times New Roman"/>
              </a:rPr>
              <a:t>Do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Instrument geometry (IDF) fix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Importer 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Corrections for the detector parallax and efficiency 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Possibility to use any ToF algorithm, e.g. ConvertUnits, SofQ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ILL IN4 and IN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LLB MiBém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PSI Foc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36640" y="399960"/>
            <a:ext cx="7223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Arial"/>
              </a:rPr>
              <a:t>WP6 – Task 3 – Prototyp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00640" y="1646280"/>
            <a:ext cx="17640" cy="2468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64120" y="1365120"/>
            <a:ext cx="460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72320" y="4151160"/>
            <a:ext cx="7128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553080" y="6553080"/>
            <a:ext cx="2279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9133E-EDFC-43A0-A68E-BC47F0C557B5}" type="slidenum"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040" y="1828800"/>
            <a:ext cx="63309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963a8"/>
                </a:solidFill>
                <a:latin typeface="Times New Roman"/>
              </a:rPr>
              <a:t>Do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Instrument geometry 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Data importer for a single scan 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963a8"/>
                </a:solidFill>
                <a:latin typeface="Times New Roman"/>
              </a:rPr>
              <a:t>Issu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How to merge different geometries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No detector corrections y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Solve this case before switching to e.g. TAS </a:t>
            </a: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(complex scann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475320" y="1484280"/>
            <a:ext cx="2524320" cy="1982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840360" y="3024360"/>
            <a:ext cx="432000" cy="4316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75320" y="3168720"/>
            <a:ext cx="760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Sc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25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80360" y="2808360"/>
            <a:ext cx="6364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overl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rcRect l="20281" t="13907" r="9509" b="7292"/>
          <a:stretch/>
        </p:blipFill>
        <p:spPr>
          <a:xfrm>
            <a:off x="6350040" y="3573360"/>
            <a:ext cx="2759040" cy="1606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442200" y="5084640"/>
            <a:ext cx="2738160" cy="142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736640" y="399960"/>
            <a:ext cx="7223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Arial"/>
              </a:rPr>
              <a:t>WP6 – Task 3 – Prototyp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1158840"/>
            <a:ext cx="7437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6666ff"/>
                </a:solidFill>
                <a:latin typeface="Times New Roman"/>
              </a:rPr>
              <a:t>Mantid: ILL D2B (HR powder diffractometer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553080" y="6553080"/>
            <a:ext cx="2279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0280A-1057-4534-89DD-BCA36178D976}" type="slidenum"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158840"/>
            <a:ext cx="7956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6666ff"/>
                </a:solidFill>
                <a:latin typeface="Times New Roman"/>
              </a:rPr>
              <a:t>Mantid: ILL D33 (ToF SAN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26120" y="1279440"/>
            <a:ext cx="2739960" cy="164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126120" y="3030480"/>
            <a:ext cx="2743200" cy="1631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" y="1828800"/>
            <a:ext cx="813744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963a8"/>
                </a:solidFill>
                <a:latin typeface="Times New Roman"/>
              </a:rPr>
              <a:t>Do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Instrument geometry 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Importer 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Ready for ILL D11 and D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963a8"/>
                </a:solidFill>
                <a:latin typeface="Times New Roman"/>
              </a:rPr>
              <a:t>Issu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Issue with two implementations for S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algorithms / GUIs (SNS vs. IS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Should be OK for series of acquis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(not fixed but not scanning → group for e.g. stop-flow cel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36640" y="399960"/>
            <a:ext cx="7223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Arial"/>
              </a:rPr>
              <a:t>WP6 – Task 3 – Prototyp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22240" y="2378160"/>
            <a:ext cx="6583320" cy="1554120"/>
          </a:xfrm>
          <a:prstGeom prst="rect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en-US" sz="2400" spc="-1" strike="noStrike">
                <a:solidFill>
                  <a:srgbClr val="ff00cc"/>
                </a:solidFill>
                <a:latin typeface="Times New Roman"/>
              </a:rPr>
              <a:t>Mant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handle most, but not all types of experiments. Its coding effort is significant. Should be complemented by </a:t>
            </a:r>
            <a:r>
              <a:rPr b="0" lang="en-US" sz="2400" spc="-1" strike="noStrike">
                <a:solidFill>
                  <a:srgbClr val="ff00cc"/>
                </a:solidFill>
                <a:latin typeface="Times New Roman"/>
              </a:rPr>
              <a:t>other pro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 coherent w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36640" y="399960"/>
            <a:ext cx="7223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Arial"/>
              </a:rPr>
              <a:t>WP6 – Task 4 – Eval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680" y="1189080"/>
            <a:ext cx="6765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</a:rPr>
              <a:t>Evaluation of prototyping when project 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2:30:16Z</dcterms:created>
  <dc:creator>Ana Claver</dc:creator>
  <dc:description/>
  <dc:language>en-US</dc:language>
  <cp:lastModifiedBy>Mark Robert Johnson</cp:lastModifiedBy>
  <dcterms:modified xsi:type="dcterms:W3CDTF">2013-11-28T14:40:35Z</dcterms:modified>
  <cp:revision>17</cp:revision>
  <dc:subject/>
  <dc:title>ESS Powerpoint Presentation</dc:title>
</cp:coreProperties>
</file>