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600" spc="-1" strike="noStrike">
                <a:solidFill>
                  <a:srgbClr val="6963a8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48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E2A64-9517-4232-A6D3-15F26068F2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28F49-1FA6-4A5F-8AE2-957BE0E67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11C0A-2085-4DBD-A551-FB76044C7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F030F-51F3-40E4-BEF6-E01E83CF43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C08A9-AC43-4A80-959E-92109ECBE6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4080" cy="342108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4080" cy="342108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4080" cy="342108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4080" cy="342108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7D16B-B8FC-45EC-8D5F-F536DE793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868680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3D372-05D2-401B-B1D3-C869AE4F32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31DA-C95E-461E-96A4-B95984DC7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444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7120" y="4131000"/>
            <a:ext cx="8444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DA01-1B9D-4CF9-9A1F-5BAA02125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960" y="185724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7120" y="413100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960" y="413100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9653-9061-4BE5-8A57-EE1753DD2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27187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1857240"/>
            <a:ext cx="27187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7080" y="1857240"/>
            <a:ext cx="27187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7120" y="4131000"/>
            <a:ext cx="27187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131000"/>
            <a:ext cx="27187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7080" y="4131000"/>
            <a:ext cx="27187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39D7-C387-4C5D-AB6C-5DE74A29DD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57120" y="1857240"/>
            <a:ext cx="844416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E965-6743-45C5-9FB4-EC9DC4FD8F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4441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7E75-7372-4925-8AFA-4695E4F63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05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960" y="1857240"/>
            <a:ext cx="41205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2C62-BA16-490B-B725-B5ED5FEC9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A9EB-3A49-4199-A2B0-28A3F690F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1049400"/>
            <a:ext cx="7942320" cy="22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789E-2AB3-4B53-902A-A083A6CCF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960" y="1857240"/>
            <a:ext cx="41205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7120" y="413100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E9DA-1000-4FF3-AD98-CDC923F8F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05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960" y="185724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960" y="413100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BFED-E996-4137-AEBB-DCD105B21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045080"/>
            <a:ext cx="79423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960" y="1857240"/>
            <a:ext cx="4120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7120" y="4131000"/>
            <a:ext cx="8444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AAED-3BE9-47F4-814D-9826E0614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db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423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6963a8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7120" y="1857240"/>
            <a:ext cx="84441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553080"/>
            <a:ext cx="18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552720"/>
            <a:ext cx="22719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92C7D-8EB8-4DC9-9A91-19AFEA3065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69040" y="6660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963a8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963a8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6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6440" y="6553080"/>
            <a:ext cx="288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WP6 – NMI3-II – June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hyperlink" Target="http://www.neutronsources.org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87600" y="-100080"/>
            <a:ext cx="6656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Data Analysis Standards (WP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1960" y="2070000"/>
            <a:ext cx="8618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9 scientific computing groups contrib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Our tasks: evaluate and facilitate common development in reduction/analysis for n/</a:t>
            </a:r>
            <a:r>
              <a:rPr b="1" lang="en-US" sz="2400" spc="-1" strike="noStrike">
                <a:solidFill>
                  <a:srgbClr val="6963a8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1 : Review existing data analysis software and practices of software develo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2: Review existing solutions for a common data analysis infra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3: Develop prototype software in chosen solution for representative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4: Evaluate prototype software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(when project ends – Sept 201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05264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ILL (lead), STFC/ISIS, TUM and JCNS (FRM2), PSI, HZB, CEA LLB, HZG/Hamburg, ESS Lund/Copenha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http://nmi3.eu/about-nmi3/networking/data-analysis-standards.html</a:t>
            </a: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404028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360" y="465300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4360" y="5013360"/>
            <a:ext cx="441360" cy="4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12B88-D8F4-4FDF-AFDB-5AB95F561C22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158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666ff"/>
                </a:solidFill>
                <a:latin typeface="Times New Roman"/>
              </a:rPr>
              <a:t>Mantid: ILL D33 (ToF SA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26120" y="1279440"/>
            <a:ext cx="2739960" cy="164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26120" y="3030480"/>
            <a:ext cx="2743200" cy="1631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1828800"/>
            <a:ext cx="81374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mporter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Ready for ILL D11 and D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ssue with two implementations for S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algorithms / GUIs (SNS vs. I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Should be OK for series of acqui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(not fixed but not scanning → group for e.g. stop-flow ce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87600" y="-100080"/>
            <a:ext cx="6656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Data Analysis Standards (WP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1960" y="2070000"/>
            <a:ext cx="8618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9 scientific computing groups contrib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Our tasks: evaluate and facilitate common development in reduction/analysis for n/</a:t>
            </a:r>
            <a:r>
              <a:rPr b="1" lang="en-US" sz="2400" spc="-1" strike="noStrike">
                <a:solidFill>
                  <a:srgbClr val="6963a8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3333"/>
                </a:solidFill>
                <a:latin typeface="Arial"/>
              </a:rPr>
              <a:t>Task 0 : Testing infrastructure: LiveDVD (June 201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1 : Review existing data analysis software and practices of software develo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2: Review existing solutions for a common data analysis infra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3: Develop prototype software in chosen solution for representative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963a8"/>
                </a:solidFill>
                <a:latin typeface="Arial"/>
              </a:rPr>
              <a:t>Task 4: Evaluate prototype software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(when project ends – Sept 201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3333"/>
                </a:solidFill>
                <a:latin typeface="Arial"/>
              </a:rPr>
              <a:t>Task 5: Mantid training and user evaluation at the ILL (June 201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05264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ILL (lead), STFC/ISIS, TUM and JCNS (FRM2), PSI, HZB, CEA LLB, HZG/Hamburg, ESS Lund/Copenha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http://nmi3.eu/about-nmi3/networking/data-analysis-standards.html</a:t>
            </a:r>
            <a:r>
              <a:rPr b="0" lang="en-US" sz="1800" spc="-1" strike="noStrike">
                <a:solidFill>
                  <a:srgbClr val="6963a8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360" y="36799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4360" y="465300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4360" y="501336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44360" y="404028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360" y="5913360"/>
            <a:ext cx="441360" cy="4413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flipV="1">
            <a:off x="5931000" y="2149560"/>
            <a:ext cx="11160" cy="87624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65640" y="2168280"/>
            <a:ext cx="1440" cy="142236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110200" y="2149560"/>
            <a:ext cx="3240" cy="196200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76720" y="2150640"/>
            <a:ext cx="1440" cy="268308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85C65-1543-47F7-84BF-78CAB916720A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03520" y="333360"/>
            <a:ext cx="6289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progress over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5564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928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84720" y="2160720"/>
            <a:ext cx="86328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00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164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528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036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04000" y="2160720"/>
            <a:ext cx="863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0000" y="2195640"/>
            <a:ext cx="257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3640" y="2195640"/>
            <a:ext cx="2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8720" y="2195640"/>
            <a:ext cx="2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2195640"/>
            <a:ext cx="3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15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15280" y="2195640"/>
            <a:ext cx="333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55640" y="2006640"/>
            <a:ext cx="1800" cy="163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9280" y="1934640"/>
            <a:ext cx="1800" cy="23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84720" y="1647360"/>
            <a:ext cx="1440" cy="5223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844640"/>
            <a:ext cx="777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July 2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1680" y="1844640"/>
            <a:ext cx="7952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Sept 2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360" y="2448000"/>
            <a:ext cx="1584360" cy="50328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Neutron Software Analysi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Preliminary mantid analysi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(code + functionalities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8360" y="3024360"/>
            <a:ext cx="1152720" cy="50292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Mantid Learn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First test IDF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First test algorith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7160" y="3600360"/>
            <a:ext cx="2527560" cy="115272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IN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oader for ILL Nex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IN4,IN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Detector correction algorith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and Loader for PSI Foc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and Loader for LLB MiBem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script preparation and testing for data re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87640" y="4824360"/>
            <a:ext cx="2087640" cy="121140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D33 ID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oader for Nexus SANS data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(including detector reposition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Analysis of SANS reduction co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D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mporting ILL ASCII data into Mant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Reduction/analysis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NMI3/ILL Live DV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55640" y="2185920"/>
            <a:ext cx="1800" cy="27144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19280" y="2185560"/>
            <a:ext cx="1800" cy="84780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1574280"/>
            <a:ext cx="1800" cy="522360"/>
          </a:xfrm>
          <a:prstGeom prst="line">
            <a:avLst/>
          </a:prstGeom>
          <a:ln cap="sq" w="936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73080" y="1368360"/>
            <a:ext cx="8492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82920" y="4103640"/>
            <a:ext cx="1981440" cy="75564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D2b (dynami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Algorithm to import D2b (scann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Algorithm to external softw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McStas/NeXus ready for Mant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oaders for D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176720" y="1647720"/>
            <a:ext cx="1440" cy="55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80240" y="1646280"/>
            <a:ext cx="1800" cy="549360"/>
          </a:xfrm>
          <a:prstGeom prst="line">
            <a:avLst/>
          </a:prstGeom>
          <a:ln cap="sq" w="72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1511280"/>
            <a:ext cx="91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11640" y="1790640"/>
            <a:ext cx="1800" cy="379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92000" y="2006640"/>
            <a:ext cx="863640" cy="14760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655640" y="1935000"/>
            <a:ext cx="863640" cy="9072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9280" y="1647360"/>
            <a:ext cx="863640" cy="30636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4720" y="1655640"/>
            <a:ext cx="792000" cy="180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76720" y="1655640"/>
            <a:ext cx="936720" cy="14472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13080" y="1728720"/>
            <a:ext cx="1800" cy="360360"/>
          </a:xfrm>
          <a:prstGeom prst="line">
            <a:avLst/>
          </a:prstGeom>
          <a:ln cap="sq" w="72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134136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D6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1187280"/>
            <a:ext cx="144360" cy="1447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59160" y="1187280"/>
            <a:ext cx="144360" cy="1447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0960" y="1187280"/>
            <a:ext cx="144360" cy="1447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1116000"/>
            <a:ext cx="1263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← </a:t>
            </a: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WP6 meet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16440" y="2925720"/>
            <a:ext cx="1981080" cy="941400"/>
          </a:xfrm>
          <a:prstGeom prst="rect">
            <a:avLst/>
          </a:prstGeom>
          <a:solidFill>
            <a:srgbClr val="cfe7f5"/>
          </a:solidFill>
          <a:ln cap="sq"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Reduction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SANS reduction for D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FlightPath Correction for TOF (fix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LAMP communi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DF for IN16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McStas/Mantid 3D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940360" y="1728720"/>
            <a:ext cx="1800" cy="4413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804000" y="1790640"/>
            <a:ext cx="1440" cy="379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11640" y="1728360"/>
            <a:ext cx="828720" cy="79560"/>
          </a:xfrm>
          <a:prstGeom prst="line">
            <a:avLst/>
          </a:prstGeom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1736640"/>
            <a:ext cx="917640" cy="63720"/>
          </a:xfrm>
          <a:prstGeom prst="line">
            <a:avLst/>
          </a:prstGeom>
          <a:ln cap="sq" w="3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34136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D6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2280" y="612612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Task 3: 200+ comm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644920" y="6308640"/>
            <a:ext cx="1295280" cy="1800"/>
          </a:xfrm>
          <a:prstGeom prst="line">
            <a:avLst/>
          </a:prstGeom>
          <a:ln w="367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51440" y="6308640"/>
            <a:ext cx="1738440" cy="1800"/>
          </a:xfrm>
          <a:prstGeom prst="line">
            <a:avLst/>
          </a:prstGeom>
          <a:ln w="367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2440" y="5121360"/>
            <a:ext cx="3081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aff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members time (meetin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hired coder (end July 201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lead (+reports, meetin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2468520"/>
            <a:ext cx="1981080" cy="1096920"/>
          </a:xfrm>
          <a:prstGeom prst="rect">
            <a:avLst/>
          </a:prstGeom>
          <a:solidFill>
            <a:srgbClr val="cfe7f5"/>
          </a:solidFill>
          <a:ln cap="sq" w="5472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67320" bIns="673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N16b Load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D33 scrip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N5 scrip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IN6 scrip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TOF elastic peak position f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D2B importer (M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6963a8"/>
                </a:solidFill>
                <a:latin typeface="Times New Roman"/>
              </a:rPr>
              <a:t>SANS polish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823080" y="1639800"/>
            <a:ext cx="858960" cy="169920"/>
          </a:xfrm>
          <a:prstGeom prst="line">
            <a:avLst/>
          </a:prstGeom>
          <a:ln cap="sq" w="3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53240" y="2166480"/>
            <a:ext cx="1800" cy="306360"/>
          </a:xfrm>
          <a:prstGeom prst="line">
            <a:avLst/>
          </a:prstGeom>
          <a:ln cap="sq" w="360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96360" y="1192320"/>
            <a:ext cx="144360" cy="1443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4320" y="1274760"/>
            <a:ext cx="992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D6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720" y="1346040"/>
            <a:ext cx="99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963a8"/>
                </a:solidFill>
                <a:latin typeface="Times New Roman"/>
              </a:rPr>
              <a:t>D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54720" y="1185840"/>
            <a:ext cx="1828800" cy="2185920"/>
          </a:xfrm>
          <a:prstGeom prst="rect">
            <a:avLst/>
          </a:prstGeom>
          <a:ln w="9360">
            <a:solidFill>
              <a:srgbClr val="3465af"/>
            </a:solidFill>
            <a:round/>
          </a:ln>
        </p:spPr>
      </p:pic>
      <p:sp>
        <p:nvSpPr>
          <p:cNvPr id="145" name=""/>
          <p:cNvSpPr/>
          <p:nvPr/>
        </p:nvSpPr>
        <p:spPr>
          <a:xfrm>
            <a:off x="1736640" y="333360"/>
            <a:ext cx="7156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6880" y="1589040"/>
            <a:ext cx="8634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68360" indent="-363600">
              <a:buSzPct val="100000"/>
              <a:buBlip>
                <a:blip r:embed="rId2"/>
              </a:buBlip>
              <a:tabLst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123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d 24 softwar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363600">
              <a:buSzPct val="100000"/>
              <a:buBlip>
                <a:blip r:embed="rId3"/>
              </a:buBlip>
              <a:tabLst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123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5 involve international collab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363600">
              <a:buSzPct val="100000"/>
              <a:buBlip>
                <a:blip r:embed="rId4"/>
              </a:buBlip>
              <a:tabLst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123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tive projects (7) use reposi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363600">
              <a:buSzPct val="100000"/>
              <a:buBlip>
                <a:blip r:embed="rId5"/>
              </a:buBlip>
              <a:tabLst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123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LiveDVD for evaluation/sch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363600">
              <a:buSzPct val="100000"/>
              <a:buBlip>
                <a:blip r:embed="rId6"/>
              </a:buBlip>
              <a:tabLst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123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cent software use Object Oriented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363600">
              <a:buSzPct val="100000"/>
              <a:buBlip>
                <a:blip r:embed="rId7"/>
              </a:buBlip>
              <a:tabLst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123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software use mainly : Fortran, C, C++ and Python languages, NeXus is sp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8360" indent="-363600">
              <a:buSzPct val="100000"/>
              <a:buBlip>
                <a:blip r:embed="rId8"/>
              </a:buBlip>
              <a:tabLst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123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day the larges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680" y="4840200"/>
            <a:ext cx="8594640" cy="15541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Necessity to identify code redundancy and propose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low-level shared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.g. models, algorithms, I/O routines, interface design templa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hould follow adopted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stand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6640" y="39852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1 – Review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680" y="1189080"/>
            <a:ext cx="676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e have reviewed the current software lands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243920" y="1179360"/>
            <a:ext cx="1828800" cy="2568600"/>
          </a:xfrm>
          <a:prstGeom prst="rect">
            <a:avLst/>
          </a:prstGeom>
          <a:ln w="9360">
            <a:solidFill>
              <a:srgbClr val="3465af"/>
            </a:solidFill>
            <a:round/>
          </a:ln>
        </p:spPr>
      </p:pic>
      <p:sp>
        <p:nvSpPr>
          <p:cNvPr id="151" name=""/>
          <p:cNvSpPr/>
          <p:nvPr/>
        </p:nvSpPr>
        <p:spPr>
          <a:xfrm>
            <a:off x="1736640" y="39852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2 – Infra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680" y="1189080"/>
            <a:ext cx="6765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e have reviewed infrastructures used for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680" y="2103480"/>
            <a:ext cx="695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location (repository), Collaborative work, Unit testing, Build servers, Code review, Technical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ontrib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homogene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" y="4794120"/>
            <a:ext cx="8486640" cy="158760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provide a </a:t>
            </a:r>
            <a:r>
              <a:rPr b="0" lang="en-GB" sz="2400" spc="-1" strike="noStrike">
                <a:solidFill>
                  <a:srgbClr val="ff00cc"/>
                </a:solidFill>
                <a:latin typeface="Times New Roman"/>
              </a:rPr>
              <a:t>community based development infrastructu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t &lt;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neutronsources.or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 with GIT/SVN, Redmine platform, Jenkins testing/build, Deb/RPM repos, favour </a:t>
            </a:r>
            <a:r>
              <a:rPr b="0" lang="en-GB" sz="2400" spc="-1" strike="noStrike">
                <a:solidFill>
                  <a:srgbClr val="ff00cc"/>
                </a:solidFill>
                <a:latin typeface="Times New Roman"/>
              </a:rPr>
              <a:t>user contribu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83320" y="2709720"/>
            <a:ext cx="2452680" cy="3233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680" y="1189080"/>
            <a:ext cx="676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e have experimented ideas – major WP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680" y="2066760"/>
            <a:ext cx="6950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 'reduction'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execute any task, with any software, and report res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ic algorithm for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use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external 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AllToMantid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de published (github, Mantid, we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0000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rs contributed to the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ject, for continuous source instruments and fixes to Algorith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4-5-6,Focus,MiBemol,D33,D2b,IN16b,McStas,D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10-13-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223040" y="1457280"/>
            <a:ext cx="175572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23840" y="4446720"/>
            <a:ext cx="6583320" cy="20113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Ma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ndle most, but not all types of experiments. 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ing eff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ignificant. Should be complemented by </a:t>
            </a:r>
            <a:r>
              <a:rPr b="0" lang="en-US" sz="2400" spc="-1" strike="noStrike">
                <a:solidFill>
                  <a:srgbClr val="ff00cc"/>
                </a:solidFill>
                <a:latin typeface="Times New Roman"/>
              </a:rPr>
              <a:t>other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oherent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only international effort, with NeX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4 –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680" y="1009800"/>
            <a:ext cx="7772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Evaluation of prototyping when project ends (Sept  20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2320" y="1359000"/>
            <a:ext cx="8504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TOF spectrometers: </a:t>
            </a:r>
            <a:r>
              <a:rPr b="0" lang="en-US" sz="2400" spc="-1" strike="noStrike">
                <a:solidFill>
                  <a:srgbClr val="00cc33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SANS: </a:t>
            </a:r>
            <a:r>
              <a:rPr b="0" lang="en-US" sz="2400" spc="-1" strike="noStrike">
                <a:solidFill>
                  <a:srgbClr val="00cc33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BackScatt: </a:t>
            </a:r>
            <a:r>
              <a:rPr b="0" lang="en-US" sz="2400" spc="-1" strike="noStrike">
                <a:solidFill>
                  <a:srgbClr val="66ff00"/>
                </a:solidFill>
                <a:latin typeface="Times New Roman"/>
              </a:rPr>
              <a:t>mostly 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IFF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for scanning instru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Reflectometers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lim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TAS: </a:t>
            </a:r>
            <a:r>
              <a:rPr b="0" lang="en-US" sz="2400" spc="-1" strike="noStrike">
                <a:solidFill>
                  <a:srgbClr val="ff3333"/>
                </a:solidFill>
                <a:latin typeface="Times New Roman"/>
              </a:rPr>
              <a:t>n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for scanning instru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7920" y="3638520"/>
            <a:ext cx="8758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Full code and reports available (web, github, Mantid comm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Future of WP6: probably 1-2 further meetings possible, no de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BC6D1-AB1C-4A7E-A79B-DDE4B2C6F198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158840"/>
            <a:ext cx="7956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666ff"/>
                </a:solidFill>
                <a:latin typeface="Times New Roman"/>
              </a:rPr>
              <a:t>Mantid: PSI Focus (To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5120" y="1197000"/>
            <a:ext cx="2286000" cy="136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75480" y="2825640"/>
            <a:ext cx="2286000" cy="165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ConvertUnits (energ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S(</a:t>
            </a:r>
            <a:r>
              <a:rPr b="0" i="1" lang="en-US" sz="2400" spc="-1" strike="noStrike">
                <a:solidFill>
                  <a:srgbClr val="6963a8"/>
                </a:solidFill>
                <a:latin typeface="Symbol"/>
                <a:ea typeface="Symbol"/>
              </a:rPr>
              <a:t></a:t>
            </a:r>
            <a:r>
              <a:rPr b="0" i="1" lang="en-US" sz="2400" spc="-1" strike="noStrike">
                <a:solidFill>
                  <a:srgbClr val="6963a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94400" y="4672080"/>
            <a:ext cx="3438360" cy="163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6963a8"/>
                </a:solidFill>
                <a:latin typeface="Times New Roman"/>
              </a:rPr>
              <a:t>S(q,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520" y="1646280"/>
            <a:ext cx="603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(IDF) fi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mporter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Corrections for the detector parallax and efficienc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Possibility to use any ToF algorithm, e.g. ConvertUnits, SofQ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LL IN4 and IN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LLB MiBé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PSI Foc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00640" y="1646280"/>
            <a:ext cx="17640" cy="2468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64120" y="1365120"/>
            <a:ext cx="460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2320" y="4151160"/>
            <a:ext cx="712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553080" y="6553080"/>
            <a:ext cx="227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37CAA-E66B-4B06-A947-A3800ABC0A0E}" type="slidenum"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040" y="1828800"/>
            <a:ext cx="63309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D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Instrument geometry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Data importer for a single scan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963a8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How to merge different geometri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No detector corrections y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963a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Solve this case before switching to e.g. TAS 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963a8"/>
                </a:solidFill>
                <a:latin typeface="Times New Roman"/>
              </a:rPr>
              <a:t>(complex scan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475320" y="1484280"/>
            <a:ext cx="2524320" cy="1982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0360" y="3024360"/>
            <a:ext cx="432000" cy="43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5320" y="3168720"/>
            <a:ext cx="76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Sc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25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80360" y="2808360"/>
            <a:ext cx="636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6963a8"/>
                </a:solidFill>
                <a:latin typeface="Times New Roman"/>
              </a:rPr>
              <a:t>overl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20281" t="13907" r="9506" b="7286"/>
          <a:stretch/>
        </p:blipFill>
        <p:spPr>
          <a:xfrm>
            <a:off x="6350040" y="3573360"/>
            <a:ext cx="2759040" cy="1606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442200" y="5084640"/>
            <a:ext cx="2738160" cy="1422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36640" y="399960"/>
            <a:ext cx="7223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Arial"/>
              </a:rPr>
              <a:t>WP6 – Task 3 – Proto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58840"/>
            <a:ext cx="7437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666ff"/>
                </a:solidFill>
                <a:latin typeface="Times New Roman"/>
              </a:rPr>
              <a:t>Mantid: ILL D2B (HR powder diffractomet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2:30:16Z</dcterms:created>
  <dc:creator>Ana Claver</dc:creator>
  <dc:description/>
  <dc:language>en-US</dc:language>
  <cp:lastModifiedBy>Mark Robert Johnson</cp:lastModifiedBy>
  <dcterms:modified xsi:type="dcterms:W3CDTF">2013-11-28T14:40:35Z</dcterms:modified>
  <cp:revision>17</cp:revision>
  <dc:subject/>
  <dc:title>ESS Powerpoint Presentation</dc:title>
</cp:coreProperties>
</file>